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198C-4E0F-4987-933D-0726C3420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D6F19-3DDE-4952-9769-1FAF8BE744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849-95A0-4A03-8CAE-AF43B24DEC2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8108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7B88-6F56-4DF3-A364-C980C42B3EC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0D7-4516-4ECE-9628-102DC906423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883F-CCD2-4914-A217-FE2707F05D5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C57-02C8-4723-873E-29CF92C9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7FA-A709-4E33-94AC-D294CF7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69D-C00D-442E-80CB-C1C43822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9D0-B76D-419B-9AFD-F6C676D9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EB3-14BB-4583-B0DF-4426ED1D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552-0B14-44DF-9F8E-32BA29AD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924-2E9B-4F5F-9B38-8411E80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9ED-5AD9-480C-92F3-3EFBB5E3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BC7-5203-4B63-A223-3384818B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40E-3AA5-4DA1-9C47-3A260D48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045-1B4D-4EB3-9A31-B8CF099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021-2D57-4F5B-8E75-3AD0835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DB2E-0FD1-44EA-985B-6D0636DDF0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hys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779480" y="1774800"/>
          <a:ext cx="558504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9480" y="1774800"/>
                    <a:ext cx="55850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nical evidence compell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720720" y="1600200"/>
            <a:ext cx="3510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ectal Surgery: Length of sta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rge Intestine: Maj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Benefits being realis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3" descr=""/>
          <p:cNvPicPr/>
          <p:nvPr/>
        </p:nvPicPr>
        <p:blipFill>
          <a:blip r:embed="rId2"/>
          <a:stretch/>
        </p:blipFill>
        <p:spPr>
          <a:xfrm>
            <a:off x="2482920" y="1701720"/>
            <a:ext cx="417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cess &amp; capacity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rad and ER Pathway.bmp"/>
          <p:cNvPicPr/>
          <p:nvPr/>
        </p:nvPicPr>
        <p:blipFill>
          <a:blip r:embed="rId2"/>
          <a:srcRect l="1775" t="1392" r="1775" b="1801"/>
          <a:stretch/>
        </p:blipFill>
        <p:spPr>
          <a:xfrm>
            <a:off x="971640" y="1663560"/>
            <a:ext cx="7200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21208" t="18512" r="24903" b="13585"/>
          <a:stretch/>
        </p:blipFill>
        <p:spPr>
          <a:xfrm>
            <a:off x="2154240" y="603360"/>
            <a:ext cx="5659560" cy="519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flipV="1" rot="10800000">
            <a:off x="2566800" y="-18720"/>
            <a:ext cx="45781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  <a:ea typeface="Arial"/>
              </a:rPr>
              <a:t>Trusts with varying experience of enhanced recovery pathw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07160" y="754200"/>
            <a:ext cx="276048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40600" y="136440"/>
            <a:ext cx="1905120" cy="1145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E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ateshead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ewcastl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s Sunderland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Northumbira NHS Trust (</a:t>
            </a:r>
            <a:r>
              <a:rPr b="0" lang="en-GB" sz="700" spc="-1" strike="noStrike">
                <a:solidFill>
                  <a:srgbClr val="006600"/>
                </a:solidFill>
                <a:latin typeface="Verdana"/>
                <a:ea typeface="Arial"/>
              </a:rPr>
              <a:t>MS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Tees Hospitals NHS Foundation Trust (C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8280" y="1938240"/>
            <a:ext cx="2880000" cy="876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W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Aintree University Hospitals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Lancashir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ope Hospital, Salford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irral University Teaching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Aintree University Hospitals NHS Foundation Trust (C,M,UPGI,Li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881760" y="1295280"/>
            <a:ext cx="21146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Yorkshire &amp; The Humb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ffield Teaching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York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carborough Healthcare NHS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Leeds Teaching Hospitals NHS Trust (C,G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Calderdale and Huddersfield NHS Foundation Trust (C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9440" y="2863800"/>
            <a:ext cx="3021120" cy="1038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West Mid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 NHS Trust, Birmingham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ood Hope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niversity Hospitals Birmingham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irmingham Heartlands NHS Tru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University Hospital of North Staffordshire NHS Trust (C,U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bert Jones &amp; Agnes Hunt NHS Tru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461360" y="2347920"/>
            <a:ext cx="15350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East Mid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Derby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Queen’s Medical Centre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rwood Forest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The University Hospitals of Leicester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93080" y="3532320"/>
            <a:ext cx="1747800" cy="1196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East of 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olchester Hospital University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Suffolk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ambridge University Hospitals NHS Foundation Trust (Addenbrookes Hospital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est Hertfordshire Hospitals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594240" y="5383080"/>
            <a:ext cx="2930400" cy="1247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East Co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righton and Sussex Universi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arent Valley Hospital (Dartford and Gravesham NHS Trust) 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Surrey Coun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orthing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Kent Hospitals University NHS Foundation Trust (Queen Elizabeth, the Queen Mother Hospitals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edway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Medway NHS Foundation Trust (C,M,G,U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Brighton and Sussex University Hospitals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576840" y="4869000"/>
            <a:ext cx="2314800" cy="194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arnet &amp; Chase Farm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uy’s &amp; St Thomas’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illingdon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mperial College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West London Elective Orthopaedic Centre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George’s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Mark’s Hospital (North West London Hospitals NHS Trust) 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The Whittington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CLH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hipps Cross University Hospital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The Hillingdon Hospital NHS Trust (C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North Middlesex University Hospital NHS Trust (C,M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0" y="3941640"/>
            <a:ext cx="2367000" cy="17294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W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Devon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Devon Healthcare NHS Foundation Trust 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Devon and Exeter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ournemouth Hospital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Bristol NHS Trust (Southmead Hospital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Yeovil District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alisbury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orset County Hospital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lymouth Hospitals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Dorset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Devon Healthcare NHS Foundation Trust (Torbay Hospital)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5703840"/>
            <a:ext cx="3281400" cy="1141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Cent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sle of Wight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ilton Keynes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erkshire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ortsmouth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ampton University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Oxford Ratcliffe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HT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 M)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inchester &amp; Eastleigh NHS Trust (C,M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yal Berkshire NHS Foundation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V="1">
            <a:off x="2978280" y="1886040"/>
            <a:ext cx="1130040" cy="101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20880" y="857160"/>
            <a:ext cx="262260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4932000" y="1681200"/>
            <a:ext cx="195588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5086440" y="2863800"/>
            <a:ext cx="236520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 flipV="1">
            <a:off x="5961240" y="3633480"/>
            <a:ext cx="1131840" cy="206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5446800" y="4354560"/>
            <a:ext cx="1131840" cy="720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4932360" y="4663800"/>
            <a:ext cx="5144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2463840" y="4560840"/>
            <a:ext cx="107964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2719440" y="4457880"/>
            <a:ext cx="2212920" cy="123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130560" y="3274920"/>
            <a:ext cx="102852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98280" y="85680"/>
            <a:ext cx="2305080" cy="175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The following denotes a trust is working in this specialt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9900"/>
                </a:solidFill>
                <a:latin typeface="Verdana"/>
                <a:ea typeface="Arial"/>
              </a:rPr>
              <a:t>(M) Musculoskele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(C) Colorec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6600cc"/>
                </a:solidFill>
                <a:latin typeface="Verdana"/>
                <a:ea typeface="Arial"/>
              </a:rPr>
              <a:t>(U) Ur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3399"/>
                </a:solidFill>
                <a:latin typeface="Verdana"/>
                <a:ea typeface="Arial"/>
              </a:rPr>
              <a:t>(G) Gynae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Enhanced Recovery Innovation Sites are shown in 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65360" y="754200"/>
            <a:ext cx="1131840" cy="608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Scot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NHS Lothian (M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Gold Jubilee National Hospital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bjectives for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sting and making changes to your pathway Understanding th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Understanding the invest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Maint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ustaining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84360" y="990720"/>
            <a:ext cx="7632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09480" y="16765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, evidence-based pathway that creates fitter, patients who recover faster from majo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 patients a better overall experience through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ntroduces innovative best practices that empower and motivat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accelerates the clinical decision-making process by empowering M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doesn’t increase MDT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ensures the most-efficient use of healthc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t-practice is day surgery or an Enhanced Recovery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616320" y="685800"/>
            <a:ext cx="427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Multi-Disciplinary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lettering.jpg"/>
          <p:cNvPicPr/>
          <p:nvPr/>
        </p:nvPicPr>
        <p:blipFill>
          <a:blip r:embed="rId2"/>
          <a:stretch/>
        </p:blipFill>
        <p:spPr>
          <a:xfrm>
            <a:off x="128520" y="6477120"/>
            <a:ext cx="486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87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Pathway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233" name="_s35848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5849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5850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5851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5852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5853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5854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5855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5856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5857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5858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5859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5860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5861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35862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35863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35864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actical activities to get you star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ased on the Implement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ccess to advice, guidan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Discuss the key elements of your local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255" name="_s214043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4044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4045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4046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4047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4048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4049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4050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4051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4052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4053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4054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4055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4056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4057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214058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214059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14060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14061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and improving  systems an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971640" y="2924280"/>
            <a:ext cx="7272360" cy="172872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42920" y="34974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ti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take mapping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116000" y="2709720"/>
            <a:ext cx="6856200" cy="3462120"/>
            <a:chOff x="1116000" y="2709720"/>
            <a:chExt cx="6856200" cy="3462120"/>
          </a:xfrm>
        </p:grpSpPr>
        <p:sp>
          <p:nvSpPr>
            <p:cNvPr id="284" name="Rectangle 5"/>
            <p:cNvSpPr/>
            <p:nvPr/>
          </p:nvSpPr>
          <p:spPr>
            <a:xfrm>
              <a:off x="25257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74328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483264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59857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60501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83264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374328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8579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64040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355104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23335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118008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"/>
            <p:cNvSpPr/>
            <p:nvPr/>
          </p:nvSpPr>
          <p:spPr>
            <a:xfrm>
              <a:off x="11160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24613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72036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720360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329472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444816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5665680" y="301932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675468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7523640" y="3300840"/>
              <a:ext cx="0" cy="844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94904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310248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1404360" y="4792680"/>
              <a:ext cx="0" cy="75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>
              <a:off x="5409360" y="583416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320000" y="583416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map provid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your current service -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the interventions you already hav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hould also consider when, where and how they   are provided and whether there is further opportunity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interventions you need to establish and start to consider the sequence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Stakeholder Analysi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124000" y="1413000"/>
            <a:ext cx="43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600" y="141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492800" y="430380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5120" y="4494600"/>
            <a:ext cx="113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63840" y="2349360"/>
            <a:ext cx="69418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5086440" y="23922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563840" y="4135320"/>
            <a:ext cx="6927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797120" y="247968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inion 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satis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view regul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26200" y="24066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Stakeholders need to be fully engaged through full communication &amp;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797120" y="428004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t crucial to the process but useful to keep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253120" y="4135320"/>
            <a:ext cx="317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ices that need to be he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ed to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41360" y="275580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322200" y="398952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805120" y="6006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548320" y="600696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33480" y="52880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33480" y="63673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V="1">
            <a:off x="933480" y="3558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3710160" y="6311520"/>
            <a:ext cx="181764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the sheets you have record your stakeholders for your chosen pathway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n, if you have time -  in relation to each pathway record the key actions needed to ensure effective stakeholder engagement for that work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will be specific to a path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cross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involve the same group of stakeholders but differ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ake time to deliberate; but when the time for action arrives, stop thinking and go 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-Andrew Jackson quoting Napoleon Bon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8"/>
          <p:cNvSpPr/>
          <p:nvPr/>
        </p:nvSpPr>
        <p:spPr>
          <a:xfrm>
            <a:off x="2627280" y="1527120"/>
            <a:ext cx="55562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"/>
          <p:cNvSpPr/>
          <p:nvPr/>
        </p:nvSpPr>
        <p:spPr>
          <a:xfrm>
            <a:off x="2627280" y="3152880"/>
            <a:ext cx="2673360" cy="2514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"/>
          <p:cNvSpPr/>
          <p:nvPr/>
        </p:nvSpPr>
        <p:spPr>
          <a:xfrm>
            <a:off x="5511960" y="1527120"/>
            <a:ext cx="267156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738720" y="302256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mong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4345200" y="5684760"/>
            <a:ext cx="206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047760" y="3951360"/>
            <a:ext cx="92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994040" y="5237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743960" y="56181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2141640" y="15033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2627280" y="5618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657480" y="1592280"/>
            <a:ext cx="14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2352600" y="1969920"/>
            <a:ext cx="12600" cy="325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0"/>
          <p:cNvSpPr/>
          <p:nvPr/>
        </p:nvSpPr>
        <p:spPr>
          <a:xfrm>
            <a:off x="3305160" y="585936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5943600" y="5871960"/>
            <a:ext cx="1806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524640" y="260280"/>
            <a:ext cx="2440080" cy="86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6640"/>
                <a:gridCol w="1346040"/>
                <a:gridCol w="1870200"/>
                <a:gridCol w="639720"/>
                <a:gridCol w="604800"/>
                <a:gridCol w="5922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ning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your table provided start to fill in from the earlier work today which actions need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o can deliver thes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timescale – 30, 60 or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ourse – flag up what support you may need here to deliver the action – eg connection into the local PCT, facilitator to deliver 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Include in this the top three challenges that you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you will encounter and the actions you will pu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place to work through these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/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-  elements of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209600" y="2276640"/>
            <a:ext cx="6683400" cy="4225680"/>
            <a:chOff x="1209600" y="2276640"/>
            <a:chExt cx="6683400" cy="4225680"/>
          </a:xfrm>
        </p:grpSpPr>
        <p:sp>
          <p:nvSpPr>
            <p:cNvPr id="418" name="AutoShape 4"/>
            <p:cNvSpPr/>
            <p:nvPr/>
          </p:nvSpPr>
          <p:spPr>
            <a:xfrm>
              <a:off x="1209600" y="2276640"/>
              <a:ext cx="668340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1273320" y="2763360"/>
              <a:ext cx="271008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1398600" y="2816280"/>
              <a:ext cx="252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73320" y="3736440"/>
              <a:ext cx="271008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"/>
            <p:cNvSpPr/>
            <p:nvPr/>
          </p:nvSpPr>
          <p:spPr>
            <a:xfrm>
              <a:off x="1334520" y="3791160"/>
              <a:ext cx="2649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5119920" y="2978280"/>
              <a:ext cx="2708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0"/>
            <p:cNvSpPr/>
            <p:nvPr/>
          </p:nvSpPr>
          <p:spPr>
            <a:xfrm>
              <a:off x="5182560" y="2977920"/>
              <a:ext cx="251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119920" y="3574440"/>
              <a:ext cx="2708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5244840" y="3682800"/>
              <a:ext cx="252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039480" y="5036040"/>
              <a:ext cx="308736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3039840" y="5037120"/>
              <a:ext cx="3086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120960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497484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3164760" y="4655880"/>
              <a:ext cx="283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34400" y="35744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442920" y="346680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3160" y="4513680"/>
              <a:ext cx="7236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>
              <a:off x="5843880" y="4140720"/>
              <a:ext cx="5792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FC4-A583-409E-96A5-CFAC2B339681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0" y="260280"/>
            <a:ext cx="795672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your baselin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nn’s story to the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eputy Prime Min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Benefits Realisation</a:t>
            </a: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39621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108000" y="33336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hanced Recovery is a new way of improving the experience and well-being of patients who need major surg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Better Soon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Next Step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ongoing support can we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-up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your first change you will test or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importance of a quick win as well as a plan for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nciples of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ting the patient in to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sible management during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t-operative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hlets theory –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rastable"/>
          <p:cNvPicPr/>
          <p:nvPr/>
        </p:nvPicPr>
        <p:blipFill>
          <a:blip r:embed="rId2"/>
          <a:stretch/>
        </p:blipFill>
        <p:spPr>
          <a:xfrm>
            <a:off x="1442880" y="1600200"/>
            <a:ext cx="625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D1AA-A81B-4825-9C6D-21081234CED9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 of E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20:26Z</dcterms:created>
  <dc:creator>btalwar</dc:creator>
  <dc:description/>
  <dc:language>en-US</dc:language>
  <cp:lastModifiedBy>LHollins</cp:lastModifiedBy>
  <dcterms:modified xsi:type="dcterms:W3CDTF">2012-03-30T16:44:38Z</dcterms:modified>
  <cp:revision>21</cp:revision>
  <dc:subject/>
  <dc:title>Slide 1</dc:title>
</cp:coreProperties>
</file>