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9.jpeg" ContentType="image/jpeg"/>
  <Override PartName="/ppt/media/image12.wmf" ContentType="image/x-wmf"/>
  <Override PartName="/ppt/media/image4.png" ContentType="image/png"/>
  <Override PartName="/ppt/media/image7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3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0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7E7E-6808-4496-BE9C-2AF785E50B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RICTE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153633-2D42-4F76-8D6C-6549DF584C7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8F955-BA18-4E31-8E1F-76A4B0F2FAA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0E37-29C6-4C0A-8566-3E27930140C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92400" y="798480"/>
            <a:ext cx="4276440" cy="32068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RE TO TRANSFORMING CARE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Abdominal Hystr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une 2010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/ May 2011: ER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ost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inimal invasive surgery (robotics)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ROV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imary Hip Replac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c 2010: Patient education group and post op follow u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– Current: Sustainability is an issue relating to integrated Multidisciplinary 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: Reduced variation since starting ERP suggesting that majority of the patients are following the path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Col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urrent: Ongoing issues with sustain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CQUINS started refocussing E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both improvement areas there will be an improvement pl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RICTE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CDD1C8-A867-4376-A889-6005BD8FF7B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43C5-FD6C-45B2-8311-3A35024FEC7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90600" y="798480"/>
            <a:ext cx="4276800" cy="3206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5594-9394-4F71-8256-A481CC75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2A1-1ACB-4093-9C2E-6E4DF55C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C7A1-AF44-4C47-8EC6-AA107B80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E554-1FA2-4440-9CD0-E9127973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C280-3BED-4D46-8D18-8FACA17B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1FA7-0646-4DBE-8EBA-5F544B03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11F-2420-4A55-9E26-84725A71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CAB-88C6-4DEA-BD96-0E61E878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8E7-5E80-467A-81CB-7D01751B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5A0-1A12-496C-AD81-1D74470F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C57-9CBB-488D-A0E7-FAB4D207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7787-83CE-4C69-8635-7D3EA20D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2704-3D3C-43B2-B67A-99A8D31D97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h.gov.uk/enhancedrecovery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www.dh.gov.uk/en/Healthcare/Electivecare/Enhancedrecovery/DH_115638" TargetMode="External"/><Relationship Id="rId4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nsight/departments/Projects/QEP/Pages/home.aspx" TargetMode="External"/><Relationship Id="rId3" Type="http://schemas.openxmlformats.org/officeDocument/2006/relationships/hyperlink" Target="http://insight/departments/Projects/QEP/Pages/home.aspx" TargetMode="External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1817280"/>
            <a:ext cx="83516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d Recovery Program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Learn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2800" spc="-1" strike="noStrike">
                <a:solidFill>
                  <a:srgbClr val="0000e5"/>
                </a:solidFill>
                <a:latin typeface="Arial"/>
              </a:rPr>
              <a:t>Helping patients to get better sooner after surgery’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o improve the quality of patients care by improving their experience</a:t>
            </a:r>
            <a:br>
              <a:rPr sz="3200"/>
            </a:b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nd clinical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6165720"/>
            <a:ext cx="892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-learning module will take 20 minutes and there will be a short assessment at th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259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6E9F-8622-4CCA-9D57-92248D7DBABA}" type="slidenum">
              <a:rPr b="1" lang="en-CA" sz="2000" spc="-1" strike="noStrike">
                <a:solidFill>
                  <a:srgbClr val="0259c2"/>
                </a:solidFill>
                <a:latin typeface="Arial"/>
                <a:ea typeface="ＭＳ Ｐゴシック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9235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6084720" y="228600"/>
            <a:ext cx="381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tors to consider for Surg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4.cover.gif"/>
          <p:cNvPicPr/>
          <p:nvPr/>
        </p:nvPicPr>
        <p:blipFill>
          <a:blip r:embed="rId2"/>
          <a:stretch/>
        </p:blipFill>
        <p:spPr>
          <a:xfrm>
            <a:off x="1389240" y="609480"/>
            <a:ext cx="1785600" cy="2576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6446880"/>
            <a:ext cx="47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6597720"/>
            <a:ext cx="87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259c2"/>
                </a:solidFill>
                <a:latin typeface="Arial"/>
              </a:rPr>
              <a:t>Fit for Surgery? Mythen MG. Anesthesia and Analgesia: April and Ma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Reali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920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 for Sustain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key drivers for change within the quality and safety fra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linical quality, patient safety and clincial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entives with CQUINS and PbR tarr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 we measur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lect high quality data to support practic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 what are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ss (compliance with the clinical path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nical (complic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tient experience (satisf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st, evaluate, refine and embed change based on evidence of own practice.  Benefits realisation can take lo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 for Sustain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nge is Clinically Led with Senior Management Sup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nical leadership is crucial for successful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aders are respected role models who can influence peers and other MDT 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volvement and engagement of all members within the MDT i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ject management, Change management, Faciliators, , senior management support and key stakeholder support and engagement is an ongoing process, and not just at the outset of the implementatio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thos of the Clinical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elebrate the success of your work and achie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w mutual respect and value the different and complementary roles of the MDT 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gage in the top tips for pat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ganisational 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the ‘can do’ culture that empowers and enables clinical teams to test new ways of working, without fear, risk or bl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are the strong relationships between managers and clinicians with quality &amp; safety being high on the executive ag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741240" y="345960"/>
            <a:ext cx="554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460080"/>
            <a:ext cx="799308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Benefits from Informed 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(shared) decision making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33280" y="1585440"/>
            <a:ext cx="70815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ecision aids provi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 to patients in making the best decision for their circum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to help them understand whether to have a diagnostic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of their condition and the progression of their disea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reatment options available to them, the side effects and benefits of each op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about the issues that are most important to them/their p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keholder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guide to stakeholder analysis and manag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S Institute for Innovation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andbook of Quality and Service improvement Tools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3 Stakeholder and User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t is important at UCLH and natio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entury Gothic"/>
              </a:rPr>
              <a:t>What else is ER aligned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198880" y="1600200"/>
            <a:ext cx="4750560" cy="4416120"/>
            <a:chOff x="2198880" y="1600200"/>
            <a:chExt cx="4750560" cy="4416120"/>
          </a:xfrm>
        </p:grpSpPr>
        <p:sp>
          <p:nvSpPr>
            <p:cNvPr id="112" name="_s131079"/>
            <p:cNvSpPr/>
            <p:nvPr/>
          </p:nvSpPr>
          <p:spPr>
            <a:xfrm flipH="1" flipV="1">
              <a:off x="3719880" y="2912040"/>
              <a:ext cx="504360" cy="55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31080"/>
            <p:cNvSpPr/>
            <p:nvPr/>
          </p:nvSpPr>
          <p:spPr>
            <a:xfrm>
              <a:off x="2835000" y="2010600"/>
              <a:ext cx="1084320" cy="102060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CA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31081"/>
            <p:cNvSpPr/>
            <p:nvPr/>
          </p:nvSpPr>
          <p:spPr>
            <a:xfrm flipH="1" flipV="1">
              <a:off x="3270960" y="3649680"/>
              <a:ext cx="768960" cy="12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31082"/>
            <p:cNvSpPr/>
            <p:nvPr/>
          </p:nvSpPr>
          <p:spPr>
            <a:xfrm>
              <a:off x="2198880" y="3046680"/>
              <a:ext cx="1084320" cy="1020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p Tip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31083"/>
            <p:cNvSpPr/>
            <p:nvPr/>
          </p:nvSpPr>
          <p:spPr>
            <a:xfrm flipH="1">
              <a:off x="3430800" y="4114800"/>
              <a:ext cx="674280" cy="36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31084"/>
            <p:cNvSpPr/>
            <p:nvPr/>
          </p:nvSpPr>
          <p:spPr>
            <a:xfrm>
              <a:off x="2419920" y="4226760"/>
              <a:ext cx="1084320" cy="10198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Actual B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r>
                <a:rPr b="1" lang="en-GB" sz="17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31085"/>
            <p:cNvSpPr/>
            <p:nvPr/>
          </p:nvSpPr>
          <p:spPr>
            <a:xfrm flipH="1">
              <a:off x="4125240" y="4336560"/>
              <a:ext cx="263880" cy="69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31086"/>
            <p:cNvSpPr/>
            <p:nvPr/>
          </p:nvSpPr>
          <p:spPr>
            <a:xfrm>
              <a:off x="3394800" y="4995720"/>
              <a:ext cx="1084320" cy="1020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urs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pensing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31087"/>
            <p:cNvSpPr/>
            <p:nvPr/>
          </p:nvSpPr>
          <p:spPr>
            <a:xfrm>
              <a:off x="4758840" y="4336560"/>
              <a:ext cx="268920" cy="68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31088"/>
            <p:cNvSpPr/>
            <p:nvPr/>
          </p:nvSpPr>
          <p:spPr>
            <a:xfrm>
              <a:off x="4668480" y="4995720"/>
              <a:ext cx="1084680" cy="10206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tocol Le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31089"/>
            <p:cNvSpPr/>
            <p:nvPr/>
          </p:nvSpPr>
          <p:spPr>
            <a:xfrm>
              <a:off x="5040000" y="4113000"/>
              <a:ext cx="676440" cy="36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31090"/>
            <p:cNvSpPr/>
            <p:nvPr/>
          </p:nvSpPr>
          <p:spPr>
            <a:xfrm>
              <a:off x="5644080" y="4224600"/>
              <a:ext cx="1084320" cy="1019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cke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Hom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31091"/>
            <p:cNvSpPr/>
            <p:nvPr/>
          </p:nvSpPr>
          <p:spPr>
            <a:xfrm flipV="1">
              <a:off x="5103360" y="3642120"/>
              <a:ext cx="768960" cy="12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31092"/>
            <p:cNvSpPr/>
            <p:nvPr/>
          </p:nvSpPr>
          <p:spPr>
            <a:xfrm>
              <a:off x="5864760" y="3044520"/>
              <a:ext cx="1084680" cy="1019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ou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31093"/>
            <p:cNvSpPr/>
            <p:nvPr/>
          </p:nvSpPr>
          <p:spPr>
            <a:xfrm flipV="1">
              <a:off x="4919040" y="2907000"/>
              <a:ext cx="501480" cy="56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31094"/>
            <p:cNvSpPr/>
            <p:nvPr/>
          </p:nvSpPr>
          <p:spPr>
            <a:xfrm>
              <a:off x="5226840" y="2008440"/>
              <a:ext cx="1084320" cy="1019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ductiv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ar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31095"/>
            <p:cNvSpPr/>
            <p:nvPr/>
          </p:nvSpPr>
          <p:spPr>
            <a:xfrm flipV="1">
              <a:off x="4571640" y="2617200"/>
              <a:ext cx="0" cy="73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31096"/>
            <p:cNvSpPr/>
            <p:nvPr/>
          </p:nvSpPr>
          <p:spPr>
            <a:xfrm>
              <a:off x="4030920" y="1600200"/>
              <a:ext cx="1084320" cy="1019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e – 11 am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31097"/>
            <p:cNvSpPr/>
            <p:nvPr/>
          </p:nvSpPr>
          <p:spPr>
            <a:xfrm>
              <a:off x="4030920" y="3352680"/>
              <a:ext cx="1084320" cy="1020600"/>
            </a:xfrm>
            <a:prstGeom prst="ellipse">
              <a:avLst/>
            </a:prstGeom>
            <a:solidFill>
              <a:srgbClr val="e1bd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RP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hat investment may be requi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Diagram 6"/>
          <p:cNvGrpSpPr/>
          <p:nvPr/>
        </p:nvGrpSpPr>
        <p:grpSpPr>
          <a:xfrm>
            <a:off x="525600" y="1497960"/>
            <a:ext cx="6268680" cy="4934880"/>
            <a:chOff x="525600" y="1497960"/>
            <a:chExt cx="6268680" cy="4934880"/>
          </a:xfrm>
        </p:grpSpPr>
        <p:sp>
          <p:nvSpPr>
            <p:cNvPr id="135" name="_s129031"/>
            <p:cNvSpPr/>
            <p:nvPr/>
          </p:nvSpPr>
          <p:spPr>
            <a:xfrm flipH="1" flipV="1">
              <a:off x="385560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29032"/>
            <p:cNvSpPr/>
            <p:nvPr/>
          </p:nvSpPr>
          <p:spPr>
            <a:xfrm>
              <a:off x="2927160" y="256716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nanc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29033"/>
            <p:cNvSpPr/>
            <p:nvPr/>
          </p:nvSpPr>
          <p:spPr>
            <a:xfrm flipH="1">
              <a:off x="35384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29034"/>
            <p:cNvSpPr/>
            <p:nvPr/>
          </p:nvSpPr>
          <p:spPr>
            <a:xfrm>
              <a:off x="2450880" y="3719880"/>
              <a:ext cx="1085760" cy="108576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29035"/>
            <p:cNvSpPr/>
            <p:nvPr/>
          </p:nvSpPr>
          <p:spPr>
            <a:xfrm flipH="1">
              <a:off x="385560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29036"/>
            <p:cNvSpPr/>
            <p:nvPr/>
          </p:nvSpPr>
          <p:spPr>
            <a:xfrm>
              <a:off x="2928600" y="4870800"/>
              <a:ext cx="1086120" cy="108576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unic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29037"/>
            <p:cNvSpPr/>
            <p:nvPr/>
          </p:nvSpPr>
          <p:spPr>
            <a:xfrm>
              <a:off x="4622400" y="4802400"/>
              <a:ext cx="0" cy="5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29038"/>
            <p:cNvSpPr/>
            <p:nvPr/>
          </p:nvSpPr>
          <p:spPr>
            <a:xfrm>
              <a:off x="4081320" y="5346720"/>
              <a:ext cx="1085760" cy="10861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stematic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rov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pproa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29039"/>
            <p:cNvSpPr/>
            <p:nvPr/>
          </p:nvSpPr>
          <p:spPr>
            <a:xfrm>
              <a:off x="500508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29040"/>
            <p:cNvSpPr/>
            <p:nvPr/>
          </p:nvSpPr>
          <p:spPr>
            <a:xfrm>
              <a:off x="5232240" y="4869000"/>
              <a:ext cx="1085760" cy="1085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am-work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29041"/>
            <p:cNvSpPr/>
            <p:nvPr/>
          </p:nvSpPr>
          <p:spPr>
            <a:xfrm>
              <a:off x="51638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29042"/>
            <p:cNvSpPr/>
            <p:nvPr/>
          </p:nvSpPr>
          <p:spPr>
            <a:xfrm>
              <a:off x="5708520" y="371808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age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kill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29043"/>
            <p:cNvSpPr/>
            <p:nvPr/>
          </p:nvSpPr>
          <p:spPr>
            <a:xfrm flipV="1">
              <a:off x="500508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29044"/>
            <p:cNvSpPr/>
            <p:nvPr/>
          </p:nvSpPr>
          <p:spPr>
            <a:xfrm>
              <a:off x="5230440" y="2567160"/>
              <a:ext cx="1086120" cy="10857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ad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gagement &amp;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countabil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29045"/>
            <p:cNvSpPr/>
            <p:nvPr/>
          </p:nvSpPr>
          <p:spPr>
            <a:xfrm flipV="1">
              <a:off x="4622400" y="3176280"/>
              <a:ext cx="0" cy="54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29046"/>
            <p:cNvSpPr/>
            <p:nvPr/>
          </p:nvSpPr>
          <p:spPr>
            <a:xfrm>
              <a:off x="4079520" y="2090880"/>
              <a:ext cx="1086120" cy="10857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m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cu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it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29047"/>
            <p:cNvSpPr/>
            <p:nvPr/>
          </p:nvSpPr>
          <p:spPr>
            <a:xfrm>
              <a:off x="4079520" y="3719880"/>
              <a:ext cx="1086120" cy="10857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hanc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ove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3"/>
            <p:cNvSpPr/>
            <p:nvPr/>
          </p:nvSpPr>
          <p:spPr>
            <a:xfrm rot="20661000">
              <a:off x="540000" y="2070360"/>
              <a:ext cx="434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Times New Roman"/>
                </a:rPr>
                <a:t>Finance is not the only inves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356760"/>
            <a:ext cx="511812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entury Gothic"/>
              </a:rPr>
              <a:t>National program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8064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to SHAs to lead a local spread and adoption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ive support and 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unications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 site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h.gov.uk/enhanced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ating emergent evidence working with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inion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keholder engagement with national bodies to embed enhanced recovery as the standard model of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icy alignment to support local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I 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Enhanced Reco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ore el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t is important at UCLH and nation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n it for the patient, MDT, hospital, community an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y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onsequences of not do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in it for the patient, MDT, hospital, community and m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in it for Pat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ral from Primary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operative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health problems are identified &amp; managed to enable the patient to be in the best possible condition for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operative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possible evidence based management during and after surg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 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-operative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mobilisation and timely discharge for the best rehabilitation with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Tips to Enhance Recovery for Pati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4950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m a partner with you in their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them for the D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ll their questions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them for treatment and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m moving soon after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ill not gain if their in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them to behave as norm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fidence to go home and get in touch if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 decision about me without m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616680" y="685800"/>
            <a:ext cx="23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dience: Pat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609480" y="1219320"/>
            <a:ext cx="80773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d Recovery is a new way of improving the experience and well-being of patients who need major surger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helps people to recover sooner so that life can return to normal as quickly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gives people a better overall experience due to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lets people choose what’s best for them throughout the course of their treatment with help from their GP and the wider healthcare team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No decision about me without me.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y people who have experienced Enhanced Recovery say that it makes a hospital stay much less str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ER Logo.jpg"/>
          <p:cNvPicPr/>
          <p:nvPr/>
        </p:nvPicPr>
        <p:blipFill>
          <a:blip r:embed="rId1"/>
          <a:stretch/>
        </p:blipFill>
        <p:spPr>
          <a:xfrm>
            <a:off x="7848720" y="6226200"/>
            <a:ext cx="1143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Tips to Enhance MDT 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-Disciplinary Tea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give patients a better overall experience through higher quality care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roduces innovative best practices that empower and motivate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ccelerates the clinical decision-making process by empowering MD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n’t increase MDT 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sures the most-efficient use of healthcar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oes it mean for provider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safety and involvement and meets Care Quality Commiss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reases job satisfaction of Multi-disciplinary Teams through better ways of working and improved patien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issio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hanc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elps patients recover sooner from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experiences through increased partnership and empowerme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No decision about me without me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otivates medical teams through best practice, empowerment and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280" y="263160"/>
            <a:ext cx="6049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i="1" lang="ja-JP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i="1" lang="en-GB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in it for Primary Ca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gives patients a better overall experience through higher quality care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puts GPs in control of commissioning the right pathways for their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ier patient discharge doesn’t create extra workload for primary or social car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mproves efficiency and productivity whilst improving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and patients work in partnership through informed decision-making and greate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clinically proven approach to faster patient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R – Greatest Challenges – Opportunities for Commissio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tness for refer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atient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uly informed cons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obust discharge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Enhanced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y ro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ssential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pons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uthority to sanction change (organisational  alignment /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nef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nge Ag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acilitate change, require knowledge, skills and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mp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pected opinion leaders who positively promot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ea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ead by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standing your current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1042920" y="1916280"/>
            <a:ext cx="7239240" cy="4225680"/>
            <a:chOff x="1042920" y="1916280"/>
            <a:chExt cx="7239240" cy="4225680"/>
          </a:xfrm>
        </p:grpSpPr>
        <p:sp>
          <p:nvSpPr>
            <p:cNvPr id="191" name="AutoShape 5"/>
            <p:cNvSpPr/>
            <p:nvPr/>
          </p:nvSpPr>
          <p:spPr>
            <a:xfrm>
              <a:off x="1042920" y="1916280"/>
              <a:ext cx="7239240" cy="422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"/>
            <p:cNvSpPr/>
            <p:nvPr/>
          </p:nvSpPr>
          <p:spPr>
            <a:xfrm>
              <a:off x="1112040" y="2403000"/>
              <a:ext cx="2935800" cy="81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1247760" y="2455920"/>
              <a:ext cx="2733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entify elements in place on enhanced recovery pathway ma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8"/>
            <p:cNvSpPr/>
            <p:nvPr/>
          </p:nvSpPr>
          <p:spPr>
            <a:xfrm>
              <a:off x="1112040" y="3376080"/>
              <a:ext cx="2935800" cy="7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9"/>
            <p:cNvSpPr/>
            <p:nvPr/>
          </p:nvSpPr>
          <p:spPr>
            <a:xfrm>
              <a:off x="1179360" y="3430800"/>
              <a:ext cx="2868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dit of compliance with clinical elements on an individual patient ba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>
              <a:off x="5278680" y="2617920"/>
              <a:ext cx="2933280" cy="488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1"/>
            <p:cNvSpPr/>
            <p:nvPr/>
          </p:nvSpPr>
          <p:spPr>
            <a:xfrm>
              <a:off x="5346360" y="2617560"/>
              <a:ext cx="2729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 map / Walk the patient jou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2"/>
            <p:cNvSpPr/>
            <p:nvPr/>
          </p:nvSpPr>
          <p:spPr>
            <a:xfrm>
              <a:off x="5278680" y="3214080"/>
              <a:ext cx="2933280" cy="48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3"/>
            <p:cNvSpPr/>
            <p:nvPr/>
          </p:nvSpPr>
          <p:spPr>
            <a:xfrm>
              <a:off x="5413680" y="332244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ck patient journ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3025080" y="4675680"/>
              <a:ext cx="3344040" cy="121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5"/>
            <p:cNvSpPr/>
            <p:nvPr/>
          </p:nvSpPr>
          <p:spPr>
            <a:xfrm>
              <a:off x="3025440" y="4676760"/>
              <a:ext cx="3343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tient Experi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gth of St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-oper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dmiss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lic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6"/>
            <p:cNvSpPr/>
            <p:nvPr/>
          </p:nvSpPr>
          <p:spPr>
            <a:xfrm>
              <a:off x="104292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INTER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7"/>
            <p:cNvSpPr/>
            <p:nvPr/>
          </p:nvSpPr>
          <p:spPr>
            <a:xfrm>
              <a:off x="512136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8"/>
            <p:cNvSpPr/>
            <p:nvPr/>
          </p:nvSpPr>
          <p:spPr>
            <a:xfrm>
              <a:off x="3160800" y="4295520"/>
              <a:ext cx="307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C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2477880" y="32140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0"/>
            <p:cNvSpPr/>
            <p:nvPr/>
          </p:nvSpPr>
          <p:spPr>
            <a:xfrm>
              <a:off x="6711480" y="3106440"/>
              <a:ext cx="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1"/>
            <p:cNvSpPr/>
            <p:nvPr/>
          </p:nvSpPr>
          <p:spPr>
            <a:xfrm>
              <a:off x="2454840" y="4153320"/>
              <a:ext cx="78372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2"/>
            <p:cNvSpPr/>
            <p:nvPr/>
          </p:nvSpPr>
          <p:spPr>
            <a:xfrm flipH="1">
              <a:off x="6063120" y="3780360"/>
              <a:ext cx="62712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47280" y="1268280"/>
            <a:ext cx="6193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Understanding your current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50920" y="1803240"/>
            <a:ext cx="1625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ferral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imary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549520" y="2644920"/>
            <a:ext cx="1308240" cy="62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1" action="ppaction://hlinksldjump"/>
              </a:rPr>
              <a:t>P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2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932280" y="3510000"/>
            <a:ext cx="128736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302080" y="4352760"/>
            <a:ext cx="12132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3" action="ppaction://hlinksldjump"/>
              </a:rPr>
              <a:t>Intr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4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6626160" y="5191200"/>
            <a:ext cx="12700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5" action="ppaction://hlinksldjump"/>
              </a:rPr>
              <a:t>Pos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6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7951680" y="6058080"/>
            <a:ext cx="941400" cy="61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0" y="3716280"/>
            <a:ext cx="2138400" cy="2705040"/>
          </a:xfrm>
          <a:prstGeom prst="wedgeRoundRectCallout">
            <a:avLst>
              <a:gd name="adj1" fmla="val 75981"/>
              <a:gd name="adj2" fmla="val -72185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 operative health &amp; 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-operative therapy instruction as 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3205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1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17448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2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40269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3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8621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4" descr="MCj04398050000[1]"/>
          <p:cNvPicPr/>
          <p:nvPr/>
        </p:nvPicPr>
        <p:blipFill>
          <a:blip r:embed="rId11"/>
          <a:stretch/>
        </p:blipFill>
        <p:spPr>
          <a:xfrm rot="20949600">
            <a:off x="7039080" y="5717880"/>
            <a:ext cx="1108080" cy="63828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25"/>
          <p:cNvSpPr/>
          <p:nvPr/>
        </p:nvSpPr>
        <p:spPr>
          <a:xfrm>
            <a:off x="2340000" y="4292640"/>
            <a:ext cx="2519280" cy="2565360"/>
          </a:xfrm>
          <a:prstGeom prst="wedgeRoundRectCallout">
            <a:avLst>
              <a:gd name="adj1" fmla="val 68023"/>
              <a:gd name="adj2" fmla="val -35953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transverse incisions (abdomi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 regional  /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management Individualised goal directed fluid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6"/>
          <p:cNvSpPr/>
          <p:nvPr/>
        </p:nvSpPr>
        <p:spPr>
          <a:xfrm>
            <a:off x="6789600" y="1814400"/>
            <a:ext cx="2152800" cy="3078360"/>
          </a:xfrm>
          <a:prstGeom prst="wedgeRoundRectCallout">
            <a:avLst>
              <a:gd name="adj1" fmla="val -37240"/>
              <a:gd name="adj2" fmla="val 5959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voidance of  systemic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7"/>
          <p:cNvSpPr/>
          <p:nvPr/>
        </p:nvSpPr>
        <p:spPr>
          <a:xfrm>
            <a:off x="4791240" y="1747800"/>
            <a:ext cx="1933560" cy="169236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 on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HO Lo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/ reduced oral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8"/>
          <p:cNvSpPr/>
          <p:nvPr/>
        </p:nvSpPr>
        <p:spPr>
          <a:xfrm>
            <a:off x="4932360" y="5735520"/>
            <a:ext cx="1976400" cy="1122480"/>
          </a:xfrm>
          <a:prstGeom prst="wedgeRoundRectCallout">
            <a:avLst>
              <a:gd name="adj1" fmla="val 102689"/>
              <a:gd name="adj2" fmla="val -473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when criteria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9"/>
          <p:cNvSpPr/>
          <p:nvPr/>
        </p:nvSpPr>
        <p:spPr>
          <a:xfrm>
            <a:off x="2590920" y="1797120"/>
            <a:ext cx="2112840" cy="798480"/>
          </a:xfrm>
          <a:prstGeom prst="wedgeRoundRectCallout">
            <a:avLst>
              <a:gd name="adj1" fmla="val -77875"/>
              <a:gd name="adj2" fmla="val 168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ing pre operative haemoglobin lev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anaging pre existing co morbidities e.g. diabe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ort-term 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upport to change the pathway (e.g. service improvement, change manager, facilitator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raining – new skills e.g. pre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quipment – invest to 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munication/aware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nd out what is already in place &amp; going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ke the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Identifying the te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requires a number of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linica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are systems an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team to work across the patient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require technical and behavioural 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start with thinking about who to engage and how to structure the projec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consequences of not doing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9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582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Picture 8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105440" cy="579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9" name="Text Box 6"/>
          <p:cNvSpPr/>
          <p:nvPr/>
        </p:nvSpPr>
        <p:spPr>
          <a:xfrm>
            <a:off x="1058760" y="6284880"/>
            <a:ext cx="73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59c2"/>
                </a:solidFill>
                <a:latin typeface="Arial"/>
                <a:ea typeface="ＭＳ Ｐゴシック"/>
              </a:rPr>
              <a:t>For copies of the clinical evidence compendium or further information contact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3"/>
              </a:rPr>
              <a:t>http://www.dh.gov.uk/en/Healthcare/Electivecare/Enhancedrecovery/DH_115638</a:t>
            </a:r>
            <a:r>
              <a:rPr b="0" lang="en-US" sz="1200" spc="-1" strike="noStrike" u="sng">
                <a:solidFill>
                  <a:srgbClr val="3e3094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6575400" y="1303200"/>
            <a:ext cx="2568600" cy="41767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20200" y="402840"/>
            <a:ext cx="56530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Support materi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2"/>
          <a:stretch/>
        </p:blipFill>
        <p:spPr>
          <a:xfrm>
            <a:off x="5210280" y="2082960"/>
            <a:ext cx="2392200" cy="387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" name="Picture 4" descr=""/>
          <p:cNvPicPr/>
          <p:nvPr/>
        </p:nvPicPr>
        <p:blipFill>
          <a:blip r:embed="rId3"/>
          <a:stretch/>
        </p:blipFill>
        <p:spPr>
          <a:xfrm>
            <a:off x="4541760" y="3282840"/>
            <a:ext cx="2181240" cy="3378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4"/>
          <a:stretch/>
        </p:blipFill>
        <p:spPr>
          <a:xfrm>
            <a:off x="1030320" y="1414440"/>
            <a:ext cx="3287520" cy="502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principle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Re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s have elective surgery with an innovative, high quality car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s are in the optimal condition for trea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s have a better care experience before, during and after their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e is a role for everyon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6360" y="60336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ment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988920" y="1627200"/>
            <a:ext cx="3267000" cy="47973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4959360" y="2784600"/>
            <a:ext cx="3786120" cy="33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tting patient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ing healthc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nomy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tting bureaucracy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ing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July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687920" y="1459080"/>
            <a:ext cx="3681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re principles of enhanced recovery are aligned to the Health White Pap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42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 Do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ri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vice guidance and support –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mplement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nhanced Recovery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HA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Local Network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CLH Implementatio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/ DVD / Top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nsight/departments/Projects/QEP/Pages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ome.asp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ww.improvement.nhs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s S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inciples, elements an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   benefits of ERP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rivers fo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urrent and future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3876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ction Plann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kehold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sting changes for improvemen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asur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Testing Changes for Improvement</a:t>
            </a: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Principles, elements and benefits of Enhanced Recovery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Drivers for Implementation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Mapping your pathway against the Enhanced Recovery Elements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</a:t>
            </a:r>
            <a:br>
              <a:rPr sz="36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It makes a difference to pat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6560" y="3106800"/>
            <a:ext cx="3446640" cy="2476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651640" y="2133720"/>
            <a:ext cx="3225600" cy="3671640"/>
          </a:xfrm>
          <a:prstGeom prst="wedgeRoundRectCallout">
            <a:avLst>
              <a:gd name="adj1" fmla="val -109694"/>
              <a:gd name="adj2" fmla="val 16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d two hip replacements last year. One in June and one in 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one was much better, the service is fabulous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59500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June there was no Enhanced Recovery Programme in place but in December there wa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Action planning and potential challenges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Measuring Outcome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Recovery Pathway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Implementation &amp; Sustainabilit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4103640" cy="2448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319280" cy="24703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4103640" cy="2592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547640" y="5157720"/>
            <a:ext cx="2737080" cy="9352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93080" y="2205000"/>
            <a:ext cx="1368360" cy="934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23280" y="5300640"/>
            <a:ext cx="1081080" cy="7207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11280" y="2421000"/>
            <a:ext cx="1873440" cy="8636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71640" y="4941720"/>
            <a:ext cx="576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59640" y="1989000"/>
            <a:ext cx="8650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198900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64360" y="4724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24000" y="177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80000" y="170028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botic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466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59640" y="44496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QUI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31880" y="118800"/>
            <a:ext cx="77277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nefits Realis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Diagram 3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8262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56760"/>
            <a:ext cx="843588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tential capacity releas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6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on Patient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Trad and ER Pathway.bmp"/>
          <p:cNvPicPr/>
          <p:nvPr/>
        </p:nvPicPr>
        <p:blipFill>
          <a:blip r:embed="rId1"/>
          <a:srcRect l="1775" t="1392" r="1775" b="1801"/>
          <a:stretch/>
        </p:blipFill>
        <p:spPr>
          <a:xfrm>
            <a:off x="289080" y="1557360"/>
            <a:ext cx="8604000" cy="50403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4"/>
          <p:cNvSpPr/>
          <p:nvPr/>
        </p:nvSpPr>
        <p:spPr>
          <a:xfrm>
            <a:off x="5513400" y="5203800"/>
            <a:ext cx="294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ditional pathway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£200 per day pp)= £2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Reduction ER = £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180720"/>
            <a:ext cx="8713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Influencing Patient Re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4720" y="1574280"/>
            <a:ext cx="380664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erastable"/>
          <p:cNvPicPr/>
          <p:nvPr/>
        </p:nvPicPr>
        <p:blipFill>
          <a:blip r:embed="rId1"/>
          <a:stretch/>
        </p:blipFill>
        <p:spPr>
          <a:xfrm>
            <a:off x="1434960" y="1738440"/>
            <a:ext cx="6496200" cy="4338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19640" y="5373720"/>
            <a:ext cx="367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NNAH - Could this slide be combined in some way with the next one (mountain).  Will need to include reference but we can do thi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623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llet’s Theory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core element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urpose of the different stages of care path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operative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ther health problems are identified &amp; managed to enable the patient to be in the best possible condition for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a-operative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st possible evidence based management is given to the patient during and after surg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operative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ients are encouraged with early mobilisation and timely discharge for the best rehabilitation with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678960"/>
            <a:ext cx="896472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Enhanced Recovery Elements at key stages of the path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0E53-189E-4163-9BEA-85E060898F3B}" type="slidenum">
              <a:rPr b="0" lang="en-CA" sz="900" spc="-1" strike="noStrike">
                <a:solidFill>
                  <a:srgbClr val="00996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85880" y="1635120"/>
            <a:ext cx="14335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erral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ary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549520" y="2476440"/>
            <a:ext cx="108108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 action="ppaction://hlinksldjump"/>
              </a:rPr>
              <a:t>P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930480" y="3341520"/>
            <a:ext cx="11671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302080" y="4184640"/>
            <a:ext cx="10828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 action="ppaction://hlinksldjump"/>
              </a:rPr>
              <a:t>Intr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626160" y="5022720"/>
            <a:ext cx="10684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 action="ppaction://hlinksldjump"/>
              </a:rPr>
              <a:t>Pos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7951680" y="5889600"/>
            <a:ext cx="806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733320" y="3697200"/>
            <a:ext cx="2347920" cy="1865520"/>
          </a:xfrm>
          <a:prstGeom prst="wedgeRoundRectCallout">
            <a:avLst>
              <a:gd name="adj1" fmla="val 41675"/>
              <a:gd name="adj2" fmla="val -7147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re operative health &amp; risk assessment - CP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1524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0063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385884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6940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MCj04398050000[1]"/>
          <p:cNvPicPr/>
          <p:nvPr/>
        </p:nvPicPr>
        <p:blipFill>
          <a:blip r:embed="rId11"/>
          <a:stretch/>
        </p:blipFill>
        <p:spPr>
          <a:xfrm rot="20949600">
            <a:off x="7040520" y="5549760"/>
            <a:ext cx="1106640" cy="6382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6"/>
          <p:cNvSpPr/>
          <p:nvPr/>
        </p:nvSpPr>
        <p:spPr>
          <a:xfrm>
            <a:off x="3147840" y="4581360"/>
            <a:ext cx="2084400" cy="2160720"/>
          </a:xfrm>
          <a:prstGeom prst="wedgeRoundRectCallout">
            <a:avLst>
              <a:gd name="adj1" fmla="val 68124"/>
              <a:gd name="adj2" fmla="val -39861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of transverse in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Use of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7"/>
          <p:cNvSpPr/>
          <p:nvPr/>
        </p:nvSpPr>
        <p:spPr>
          <a:xfrm>
            <a:off x="6800760" y="1779480"/>
            <a:ext cx="2114640" cy="2494080"/>
          </a:xfrm>
          <a:prstGeom prst="wedgeRoundRectCallout">
            <a:avLst>
              <a:gd name="adj1" fmla="val -37597"/>
              <a:gd name="adj2" fmla="val 7991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voidance of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8"/>
          <p:cNvSpPr/>
          <p:nvPr/>
        </p:nvSpPr>
        <p:spPr>
          <a:xfrm>
            <a:off x="4792680" y="1579680"/>
            <a:ext cx="1932120" cy="169200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/ reduced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9"/>
          <p:cNvSpPr/>
          <p:nvPr/>
        </p:nvSpPr>
        <p:spPr>
          <a:xfrm>
            <a:off x="5292720" y="5735520"/>
            <a:ext cx="1949400" cy="927360"/>
          </a:xfrm>
          <a:prstGeom prst="wedgeRoundRectCallout">
            <a:avLst>
              <a:gd name="adj1" fmla="val 86388"/>
              <a:gd name="adj2" fmla="val 479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X on planned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0"/>
          <p:cNvSpPr/>
          <p:nvPr/>
        </p:nvSpPr>
        <p:spPr>
          <a:xfrm>
            <a:off x="2579760" y="1450800"/>
            <a:ext cx="2112840" cy="943200"/>
          </a:xfrm>
          <a:prstGeom prst="wedgeRoundRectCallout">
            <a:avLst>
              <a:gd name="adj1" fmla="val -67615"/>
              <a:gd name="adj2" fmla="val -622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ing pre operative haemoglobin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Managing pre existing co morbidities e.g.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1"/>
          <p:cNvSpPr/>
          <p:nvPr/>
        </p:nvSpPr>
        <p:spPr>
          <a:xfrm flipH="1">
            <a:off x="7900920" y="4622760"/>
            <a:ext cx="1006560" cy="711360"/>
          </a:xfrm>
          <a:prstGeom prst="wedgeRoundRectCallout">
            <a:avLst>
              <a:gd name="adj1" fmla="val -12907"/>
              <a:gd name="adj2" fmla="val 12631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Audit &amp; outcom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09:39:24Z</dcterms:created>
  <dc:creator>btalwar</dc:creator>
  <dc:description/>
  <dc:language>en-US</dc:language>
  <cp:lastModifiedBy>LHollins</cp:lastModifiedBy>
  <dcterms:modified xsi:type="dcterms:W3CDTF">2012-03-30T16:45:28Z</dcterms:modified>
  <cp:revision>21</cp:revision>
  <dc:subject/>
  <dc:title>Enhanced Recovery e-learning module</dc:title>
</cp:coreProperties>
</file>