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5.png" ContentType="image/png"/>
  <Override PartName="/ppt/media/image9.jpeg" ContentType="image/jpeg"/>
  <Override PartName="/ppt/media/image12.wmf" ContentType="image/x-wmf"/>
  <Override PartName="/ppt/media/image4.png" ContentType="image/png"/>
  <Override PartName="/ppt/media/image7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3.png" ContentType="image/png"/>
  <Override PartName="/ppt/media/image2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2.wmf" ContentType="image/x-wmf"/>
  <Override PartName="/ppt/media/image20.wmf" ContentType="image/x-wmf"/>
  <Override PartName="/ppt/media/image10.png" ContentType="image/png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BA22-65B8-44E4-8ED8-2A162939F6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TRICTED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45B81C-99D9-409E-B8CC-D742F75D5AC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1EF1F6-1AD9-406A-98A8-C5B70E76240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8652-C9EE-4B26-B16F-CDE3DBA7A7B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92400" y="798480"/>
            <a:ext cx="4276440" cy="32068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5840" y="4344840"/>
            <a:ext cx="502632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ARE TO TRANSFORMING CARE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IMPAC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dian LOS for Abdominal Hystrectom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une 2010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eb 2011: Move to same day admission for elective surg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pril / May 2011: ERP star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dian LOS for Prostectom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pt 2010: minimal invasive surgery (robotics) star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pt 2010: Move to same day admission for elective surg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IMPROVEMEN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dian LOS for Primary Hip Replacemen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c 2010: Patient education group and post op follow up star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pril – Current: Sustainability is an issue relating to integrated Multidisciplinary wor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e: Reduced variation since starting ERP suggesting that majority of the patients are following the path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dian LOS for Colectom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urrent: Ongoing issues with sustain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eb 2011: CQUINS started refocussing ER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 both improvement areas there will be an improvement pla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TRICTED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E54924-496A-4882-80B9-4899BFD0261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82BA-78A2-48DE-A942-876F4723231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90600" y="798480"/>
            <a:ext cx="4276800" cy="32068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5840" y="4344840"/>
            <a:ext cx="502632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5E9C-79D0-4759-9FB8-6129739AB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B563-E2FD-4AED-91DD-2167D3BB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28AF-BF19-431A-B914-1B2EFA3A4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8FD4-58C0-4A60-AA50-601640EC3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D4BC-C373-4994-B08C-59FF8C2F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853D-9448-4BB9-BA92-6D12A4D3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A1A3-1694-4EF8-A06F-13C348CB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660B-8AEF-479F-B895-9B392032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260A-889C-4F29-B09B-B06E99E1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07D3-5DC9-46B6-971F-DC3DEB3C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617B-3EFD-4A98-851F-E91E7B01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52CF-E86A-4450-917D-3129BB43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1213-2790-4759-98C4-66C2D6B1A87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dh.gov.uk/enhancedrecovery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hyperlink" Target="http://www.dh.gov.uk/en/Healthcare/Electivecare/Enhancedrecovery/DH_115638" TargetMode="External"/><Relationship Id="rId4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insight/departments/Projects/QEP/Pages/home.aspx" TargetMode="External"/><Relationship Id="rId3" Type="http://schemas.openxmlformats.org/officeDocument/2006/relationships/hyperlink" Target="http://insight/departments/Projects/QEP/Pages/home.aspx" TargetMode="External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1817280"/>
            <a:ext cx="835164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hanced Recovery Program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Learning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US" sz="2800" spc="-1" strike="noStrike">
                <a:solidFill>
                  <a:srgbClr val="0000e5"/>
                </a:solidFill>
                <a:latin typeface="Arial"/>
              </a:rPr>
              <a:t>Helping patients to get better sooner after surgery’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To improve the quality of patients care by improving their experience</a:t>
            </a:r>
            <a:br>
              <a:rPr sz="3200"/>
            </a:b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and clinical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6165720"/>
            <a:ext cx="892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e-learning module will take 20 minutes and there will be a short assessment at the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1"/>
          <p:cNvSpPr/>
          <p:nvPr/>
        </p:nvSpPr>
        <p:spPr>
          <a:xfrm>
            <a:off x="8089920" y="6512040"/>
            <a:ext cx="946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259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5F48-0FF8-42AC-9AEF-024AB79D70ED}" type="slidenum">
              <a:rPr b="1" lang="en-CA" sz="2000" spc="-1" strike="noStrike">
                <a:solidFill>
                  <a:srgbClr val="0259c2"/>
                </a:solidFill>
                <a:latin typeface="Arial"/>
                <a:ea typeface="ＭＳ Ｐゴシック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684360" y="0"/>
            <a:ext cx="92358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6084720" y="228600"/>
            <a:ext cx="381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tors to consider for Surge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4.cover.gif"/>
          <p:cNvPicPr/>
          <p:nvPr/>
        </p:nvPicPr>
        <p:blipFill>
          <a:blip r:embed="rId2"/>
          <a:stretch/>
        </p:blipFill>
        <p:spPr>
          <a:xfrm>
            <a:off x="1389240" y="609480"/>
            <a:ext cx="1785600" cy="2576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8360" y="6446880"/>
            <a:ext cx="475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6597720"/>
            <a:ext cx="87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259c2"/>
                </a:solidFill>
                <a:latin typeface="Arial"/>
              </a:rPr>
              <a:t>Fit for Surgery? Mythen MG. Anesthesia and Analgesia: April and Ma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Reali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920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ccess for Sustain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are the key drivers for change within the quality and safety frame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 clinical quality, patient safety and clincial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entives with CQUINS and PbR tarr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do we measure th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llect high quality data to support practic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ine what are 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cess (compliance with the clinical pathw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nical (complic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tient experience (satisfa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st, evaluate, refine and embed change based on evidence of own practice.  Benefits realisation can take lo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ccess for Sustain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ange is Clinically Led with Senior Management Sup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inical leadership is crucial for successful 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eaders are respected role models who can influence peers and other MDT mem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volvement and engagement of all members within the MDT is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ject management, Change management, Faciliators, , senior management support and key stakeholder support and engagement is an ongoing process, and not just at the outset of the implementation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thos of the Clinical T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elebrate the success of your work and achie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w mutual respect and value the different and complementary roles of the MDT mem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gage in the top tips for pati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rganisational Cul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the ‘can do’ culture that empowers and enables clinical teams to test new ways of working, without fear, risk or bl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are the strong relationships between managers and clinicians with quality &amp; safety being high on the executive age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741240" y="345960"/>
            <a:ext cx="554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280" y="460080"/>
            <a:ext cx="799308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Benefits from Informed </a:t>
            </a:r>
            <a:br>
              <a:rPr sz="5400"/>
            </a:b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(shared) decision making –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33280" y="1585440"/>
            <a:ext cx="70815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ecision aids provid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pport to patients in making the best decision for their circumst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tion to help them understand whether to have a diagnostic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tion of their condition and the progression of their disea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reatment options available to them, the side effects and benefits of each op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tion about the issues that are most important to them/their pre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keholder Eng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guide to stakeholder analysis and manag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S Institute for Innovation and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andbook of Quality and Service improvement Tools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3 Stakeholder and User Invol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t is important at UCLH and nation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entury Gothic"/>
              </a:rPr>
              <a:t>What else is ER aligned 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198880" y="1600200"/>
            <a:ext cx="4750560" cy="4416120"/>
            <a:chOff x="2198880" y="1600200"/>
            <a:chExt cx="4750560" cy="4416120"/>
          </a:xfrm>
        </p:grpSpPr>
        <p:sp>
          <p:nvSpPr>
            <p:cNvPr id="112" name="_s131079"/>
            <p:cNvSpPr/>
            <p:nvPr/>
          </p:nvSpPr>
          <p:spPr>
            <a:xfrm flipH="1" flipV="1">
              <a:off x="3719880" y="2912040"/>
              <a:ext cx="504360" cy="55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31080"/>
            <p:cNvSpPr/>
            <p:nvPr/>
          </p:nvSpPr>
          <p:spPr>
            <a:xfrm>
              <a:off x="2835000" y="2010600"/>
              <a:ext cx="1084320" cy="1020600"/>
            </a:xfrm>
            <a:prstGeom prst="ellipse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CAB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31081"/>
            <p:cNvSpPr/>
            <p:nvPr/>
          </p:nvSpPr>
          <p:spPr>
            <a:xfrm flipH="1" flipV="1">
              <a:off x="3270960" y="3649680"/>
              <a:ext cx="768960" cy="12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31082"/>
            <p:cNvSpPr/>
            <p:nvPr/>
          </p:nvSpPr>
          <p:spPr>
            <a:xfrm>
              <a:off x="2198880" y="3046680"/>
              <a:ext cx="1084320" cy="10206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op Tips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31083"/>
            <p:cNvSpPr/>
            <p:nvPr/>
          </p:nvSpPr>
          <p:spPr>
            <a:xfrm flipH="1">
              <a:off x="3430800" y="4114800"/>
              <a:ext cx="674280" cy="36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31084"/>
            <p:cNvSpPr/>
            <p:nvPr/>
          </p:nvSpPr>
          <p:spPr>
            <a:xfrm>
              <a:off x="2419920" y="4226760"/>
              <a:ext cx="1084320" cy="101988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Actual Bed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r>
                <a:rPr b="1" lang="en-GB" sz="1700" spc="-1" strike="noStrike">
                  <a:solidFill>
                    <a:srgbClr val="80808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31085"/>
            <p:cNvSpPr/>
            <p:nvPr/>
          </p:nvSpPr>
          <p:spPr>
            <a:xfrm flipH="1">
              <a:off x="4125240" y="4336560"/>
              <a:ext cx="263880" cy="69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31086"/>
            <p:cNvSpPr/>
            <p:nvPr/>
          </p:nvSpPr>
          <p:spPr>
            <a:xfrm>
              <a:off x="3394800" y="4995720"/>
              <a:ext cx="1084320" cy="10206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Nurse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ispensing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31087"/>
            <p:cNvSpPr/>
            <p:nvPr/>
          </p:nvSpPr>
          <p:spPr>
            <a:xfrm>
              <a:off x="4758840" y="4336560"/>
              <a:ext cx="268920" cy="68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31088"/>
            <p:cNvSpPr/>
            <p:nvPr/>
          </p:nvSpPr>
          <p:spPr>
            <a:xfrm>
              <a:off x="4668480" y="4995720"/>
              <a:ext cx="1084680" cy="10206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rotocol Le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ischar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31089"/>
            <p:cNvSpPr/>
            <p:nvPr/>
          </p:nvSpPr>
          <p:spPr>
            <a:xfrm>
              <a:off x="5040000" y="4113000"/>
              <a:ext cx="676440" cy="36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31090"/>
            <p:cNvSpPr/>
            <p:nvPr/>
          </p:nvSpPr>
          <p:spPr>
            <a:xfrm>
              <a:off x="5644080" y="4224600"/>
              <a:ext cx="1084320" cy="1019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Ticke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Home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31091"/>
            <p:cNvSpPr/>
            <p:nvPr/>
          </p:nvSpPr>
          <p:spPr>
            <a:xfrm flipV="1">
              <a:off x="5103360" y="3642120"/>
              <a:ext cx="768960" cy="12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31092"/>
            <p:cNvSpPr/>
            <p:nvPr/>
          </p:nvSpPr>
          <p:spPr>
            <a:xfrm>
              <a:off x="5864760" y="3044520"/>
              <a:ext cx="1084680" cy="1019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ischarge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Loun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31093"/>
            <p:cNvSpPr/>
            <p:nvPr/>
          </p:nvSpPr>
          <p:spPr>
            <a:xfrm flipV="1">
              <a:off x="4919040" y="2907000"/>
              <a:ext cx="501480" cy="56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31094"/>
            <p:cNvSpPr/>
            <p:nvPr/>
          </p:nvSpPr>
          <p:spPr>
            <a:xfrm>
              <a:off x="5226840" y="2008440"/>
              <a:ext cx="1084320" cy="1019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roductive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ard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31095"/>
            <p:cNvSpPr/>
            <p:nvPr/>
          </p:nvSpPr>
          <p:spPr>
            <a:xfrm flipV="1">
              <a:off x="4571640" y="2617200"/>
              <a:ext cx="0" cy="73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31096"/>
            <p:cNvSpPr/>
            <p:nvPr/>
          </p:nvSpPr>
          <p:spPr>
            <a:xfrm>
              <a:off x="4030920" y="1600200"/>
              <a:ext cx="1084320" cy="1019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re – 11 am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ischar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31097"/>
            <p:cNvSpPr/>
            <p:nvPr/>
          </p:nvSpPr>
          <p:spPr>
            <a:xfrm>
              <a:off x="4030920" y="3352680"/>
              <a:ext cx="1084320" cy="1020600"/>
            </a:xfrm>
            <a:prstGeom prst="ellipse">
              <a:avLst/>
            </a:prstGeom>
            <a:solidFill>
              <a:srgbClr val="e1bd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RP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What investment may be requir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Diagram 6"/>
          <p:cNvGrpSpPr/>
          <p:nvPr/>
        </p:nvGrpSpPr>
        <p:grpSpPr>
          <a:xfrm>
            <a:off x="525600" y="1497960"/>
            <a:ext cx="6268680" cy="4934880"/>
            <a:chOff x="525600" y="1497960"/>
            <a:chExt cx="6268680" cy="4934880"/>
          </a:xfrm>
        </p:grpSpPr>
        <p:sp>
          <p:nvSpPr>
            <p:cNvPr id="135" name="_s129031"/>
            <p:cNvSpPr/>
            <p:nvPr/>
          </p:nvSpPr>
          <p:spPr>
            <a:xfrm flipH="1" flipV="1">
              <a:off x="3855600" y="3493800"/>
              <a:ext cx="384120" cy="38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29032"/>
            <p:cNvSpPr/>
            <p:nvPr/>
          </p:nvSpPr>
          <p:spPr>
            <a:xfrm>
              <a:off x="2927160" y="2567160"/>
              <a:ext cx="1085760" cy="108576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inancia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129033"/>
            <p:cNvSpPr/>
            <p:nvPr/>
          </p:nvSpPr>
          <p:spPr>
            <a:xfrm flipH="1">
              <a:off x="3538440" y="4260960"/>
              <a:ext cx="54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29034"/>
            <p:cNvSpPr/>
            <p:nvPr/>
          </p:nvSpPr>
          <p:spPr>
            <a:xfrm>
              <a:off x="2450880" y="3719880"/>
              <a:ext cx="1085760" cy="1085760"/>
            </a:xfrm>
            <a:prstGeom prst="ellipse">
              <a:avLst/>
            </a:prstGeom>
            <a:solidFill>
              <a:srgbClr val="1a0fff"/>
            </a:solidFill>
            <a:ln w="28440">
              <a:solidFill>
                <a:srgbClr val="0a0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rain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29035"/>
            <p:cNvSpPr/>
            <p:nvPr/>
          </p:nvSpPr>
          <p:spPr>
            <a:xfrm flipH="1">
              <a:off x="3855600" y="4643640"/>
              <a:ext cx="384120" cy="38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129036"/>
            <p:cNvSpPr/>
            <p:nvPr/>
          </p:nvSpPr>
          <p:spPr>
            <a:xfrm>
              <a:off x="2928600" y="4870800"/>
              <a:ext cx="1086120" cy="1085760"/>
            </a:xfrm>
            <a:prstGeom prst="ellipse">
              <a:avLst/>
            </a:pr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munica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29037"/>
            <p:cNvSpPr/>
            <p:nvPr/>
          </p:nvSpPr>
          <p:spPr>
            <a:xfrm>
              <a:off x="4622400" y="4802400"/>
              <a:ext cx="0" cy="54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29038"/>
            <p:cNvSpPr/>
            <p:nvPr/>
          </p:nvSpPr>
          <p:spPr>
            <a:xfrm>
              <a:off x="4081320" y="5346720"/>
              <a:ext cx="1085760" cy="108612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ystematic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mprovemen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pproac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29039"/>
            <p:cNvSpPr/>
            <p:nvPr/>
          </p:nvSpPr>
          <p:spPr>
            <a:xfrm>
              <a:off x="5005080" y="4643640"/>
              <a:ext cx="384120" cy="38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129040"/>
            <p:cNvSpPr/>
            <p:nvPr/>
          </p:nvSpPr>
          <p:spPr>
            <a:xfrm>
              <a:off x="5232240" y="4869000"/>
              <a:ext cx="1085760" cy="10857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am-work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29041"/>
            <p:cNvSpPr/>
            <p:nvPr/>
          </p:nvSpPr>
          <p:spPr>
            <a:xfrm>
              <a:off x="5163840" y="4260960"/>
              <a:ext cx="54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129042"/>
            <p:cNvSpPr/>
            <p:nvPr/>
          </p:nvSpPr>
          <p:spPr>
            <a:xfrm>
              <a:off x="5708520" y="3718080"/>
              <a:ext cx="1085760" cy="108576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an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nage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kill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129043"/>
            <p:cNvSpPr/>
            <p:nvPr/>
          </p:nvSpPr>
          <p:spPr>
            <a:xfrm flipV="1">
              <a:off x="5005080" y="3493800"/>
              <a:ext cx="384120" cy="38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129044"/>
            <p:cNvSpPr/>
            <p:nvPr/>
          </p:nvSpPr>
          <p:spPr>
            <a:xfrm>
              <a:off x="5230440" y="2567160"/>
              <a:ext cx="1086120" cy="108576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adersh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gagement &amp;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ccountabilit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129045"/>
            <p:cNvSpPr/>
            <p:nvPr/>
          </p:nvSpPr>
          <p:spPr>
            <a:xfrm flipV="1">
              <a:off x="4622400" y="3176280"/>
              <a:ext cx="0" cy="54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129046"/>
            <p:cNvSpPr/>
            <p:nvPr/>
          </p:nvSpPr>
          <p:spPr>
            <a:xfrm>
              <a:off x="4079520" y="2090880"/>
              <a:ext cx="1086120" cy="108576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im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ocu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mit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129047"/>
            <p:cNvSpPr/>
            <p:nvPr/>
          </p:nvSpPr>
          <p:spPr>
            <a:xfrm>
              <a:off x="4079520" y="3719880"/>
              <a:ext cx="1086120" cy="108576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hanced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cover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3"/>
            <p:cNvSpPr/>
            <p:nvPr/>
          </p:nvSpPr>
          <p:spPr>
            <a:xfrm rot="20661000">
              <a:off x="540000" y="2070360"/>
              <a:ext cx="434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Times New Roman"/>
                </a:rPr>
                <a:t>Finance is not the only invest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356760"/>
            <a:ext cx="5118120" cy="5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entury Gothic"/>
              </a:rPr>
              <a:t>National program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8064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to SHAs to lead a local spread and adoption 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jective support and gui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unications and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 site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dh.gov.uk/enhancedre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llating emergent evidence working with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pinion l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keholder engagement with national bodies to embed enhanced recovery as the standard model of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licy alignment to support local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I lea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Enhanced Recov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core el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t is important at UCLH and national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n it for the patient, MDT, hospital, community and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my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consequences of not doing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in it for the patient, MDT, hospital, community and m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in it for Pati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erral from Primary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-operativel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health problems are identified &amp; managed to enable the patient to be in the best possible condition for surg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-operativel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possible evidence based management during and after surge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 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-operative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ly mobilisation and timely discharge for the best rehabilitation with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 Tips to Enhance Recovery for Patient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49508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m a partner with you in their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them for the D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all their questions answ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them for treatment and re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them moving soon after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ill not gain if their in 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them to behave as norm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fidence to go home and get in touch if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 decision about me without m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1"/>
          <p:cNvSpPr/>
          <p:nvPr/>
        </p:nvSpPr>
        <p:spPr>
          <a:xfrm>
            <a:off x="616680" y="685800"/>
            <a:ext cx="234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udience: Pati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2"/>
          <p:cNvSpPr/>
          <p:nvPr/>
        </p:nvSpPr>
        <p:spPr>
          <a:xfrm>
            <a:off x="609480" y="1219320"/>
            <a:ext cx="80773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hanced Recovery is a new way of improving the experience and well-being of patients who need major surger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helps people to recover sooner so that life can return to normal as quickly a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gives people a better overall experience due to higher quality care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lets people choose what’s best for them throughout the course of their treatment with help from their GP and the wider healthcare team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No decision about me without me.”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ny people who have experienced Enhanced Recovery say that it makes a hospital stay much less stress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ER Logo.jpg"/>
          <p:cNvPicPr/>
          <p:nvPr/>
        </p:nvPicPr>
        <p:blipFill>
          <a:blip r:embed="rId1"/>
          <a:stretch/>
        </p:blipFill>
        <p:spPr>
          <a:xfrm>
            <a:off x="7848720" y="6226200"/>
            <a:ext cx="114300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 Tips to Enhance MDT Wor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ulti-Disciplinary Team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give patients a better overall experience through higher quality care an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roduces innovative best practices that empower and motivate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accelerates the clinical decision-making process by empowering MD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n’t increase MDT work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ensures the most-efficient use of healthcare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-practice is day surgery or an Enhanced Recovery pat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does it mean for provider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mproves patient safety and involvement and meets Care Quality Commission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duces demand on resources such as critical care, surgical beds and patient uptake of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creases job satisfaction of Multi-disciplinary Teams through better ways of working and improved patien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mproves the reputation of the healthcare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-practice is day surgery or an Enhanced Recovery pat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ission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enhances the reputation of the healthcare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elps patients recover sooner from surg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-practice is day surgery or an Enhanced Recovery pat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mproves patient experiences through increased partnership and empowerment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No decision about me without me.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otivates medical teams through best practice, empowerment and inno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duces demand on resources such as critical care, surgical beds and patient uptake of proced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280" y="263160"/>
            <a:ext cx="60498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54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i="1" lang="ja-JP" sz="5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0" i="1" lang="en-GB" sz="5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 in it for Primary Car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gives patients a better overall experience through higher quality care an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puts GPs in control of commissioning the right pathways for their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ier patient discharge doesn’t create extra workload for primary or social care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mproves efficiency and productivity whilst improving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and patients work in partnership through informed decision-making and greater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 clinically proven approach to faster patient re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R – Greatest Challenges – Opportunities for Commissio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tness for refer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atient edu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ruly informed cons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obust discharge 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Enhanced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my ro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Essential Rol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pons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uthority to sanction change (organisational  alignment /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enef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hange Ag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acilitate change, require knowledge, skills and cred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hamp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spected opinion leaders who positively promot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Lead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lead by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derstanding your current serv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4"/>
          <p:cNvGrpSpPr/>
          <p:nvPr/>
        </p:nvGrpSpPr>
        <p:grpSpPr>
          <a:xfrm>
            <a:off x="1042920" y="1916280"/>
            <a:ext cx="7239240" cy="4225680"/>
            <a:chOff x="1042920" y="1916280"/>
            <a:chExt cx="7239240" cy="4225680"/>
          </a:xfrm>
        </p:grpSpPr>
        <p:sp>
          <p:nvSpPr>
            <p:cNvPr id="191" name="AutoShape 5"/>
            <p:cNvSpPr/>
            <p:nvPr/>
          </p:nvSpPr>
          <p:spPr>
            <a:xfrm>
              <a:off x="1042920" y="1916280"/>
              <a:ext cx="7239240" cy="4225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6"/>
            <p:cNvSpPr/>
            <p:nvPr/>
          </p:nvSpPr>
          <p:spPr>
            <a:xfrm>
              <a:off x="1112040" y="2403000"/>
              <a:ext cx="2935800" cy="81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7"/>
            <p:cNvSpPr/>
            <p:nvPr/>
          </p:nvSpPr>
          <p:spPr>
            <a:xfrm>
              <a:off x="1247760" y="2455920"/>
              <a:ext cx="27334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dentify elements in place on enhanced recovery pathway ma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8"/>
            <p:cNvSpPr/>
            <p:nvPr/>
          </p:nvSpPr>
          <p:spPr>
            <a:xfrm>
              <a:off x="1112040" y="3376080"/>
              <a:ext cx="2935800" cy="7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9"/>
            <p:cNvSpPr/>
            <p:nvPr/>
          </p:nvSpPr>
          <p:spPr>
            <a:xfrm>
              <a:off x="1179360" y="3430800"/>
              <a:ext cx="28684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udit of compliance with clinical elements on an individual patient bas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0"/>
            <p:cNvSpPr/>
            <p:nvPr/>
          </p:nvSpPr>
          <p:spPr>
            <a:xfrm>
              <a:off x="5278680" y="2617920"/>
              <a:ext cx="2933280" cy="488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1"/>
            <p:cNvSpPr/>
            <p:nvPr/>
          </p:nvSpPr>
          <p:spPr>
            <a:xfrm>
              <a:off x="5346360" y="2617560"/>
              <a:ext cx="27291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cess map / Walk the patient journe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2"/>
            <p:cNvSpPr/>
            <p:nvPr/>
          </p:nvSpPr>
          <p:spPr>
            <a:xfrm>
              <a:off x="5278680" y="3214080"/>
              <a:ext cx="2933280" cy="48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13"/>
            <p:cNvSpPr/>
            <p:nvPr/>
          </p:nvSpPr>
          <p:spPr>
            <a:xfrm>
              <a:off x="5413680" y="3322440"/>
              <a:ext cx="273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rack patient journey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4"/>
            <p:cNvSpPr/>
            <p:nvPr/>
          </p:nvSpPr>
          <p:spPr>
            <a:xfrm>
              <a:off x="3025080" y="4675680"/>
              <a:ext cx="3344040" cy="121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5"/>
            <p:cNvSpPr/>
            <p:nvPr/>
          </p:nvSpPr>
          <p:spPr>
            <a:xfrm>
              <a:off x="3025440" y="4676760"/>
              <a:ext cx="33436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atient Experie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ngth of St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-operation r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admission r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plication r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16"/>
            <p:cNvSpPr/>
            <p:nvPr/>
          </p:nvSpPr>
          <p:spPr>
            <a:xfrm>
              <a:off x="1042920" y="2040120"/>
              <a:ext cx="3073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LINICAL INTERVEN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7"/>
            <p:cNvSpPr/>
            <p:nvPr/>
          </p:nvSpPr>
          <p:spPr>
            <a:xfrm>
              <a:off x="5121360" y="2040120"/>
              <a:ext cx="3073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LINICAL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8"/>
            <p:cNvSpPr/>
            <p:nvPr/>
          </p:nvSpPr>
          <p:spPr>
            <a:xfrm>
              <a:off x="3160800" y="4295520"/>
              <a:ext cx="3071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UTCOM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9"/>
            <p:cNvSpPr/>
            <p:nvPr/>
          </p:nvSpPr>
          <p:spPr>
            <a:xfrm>
              <a:off x="2477880" y="3214080"/>
              <a:ext cx="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0"/>
            <p:cNvSpPr/>
            <p:nvPr/>
          </p:nvSpPr>
          <p:spPr>
            <a:xfrm>
              <a:off x="6711480" y="3106440"/>
              <a:ext cx="0" cy="10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1"/>
            <p:cNvSpPr/>
            <p:nvPr/>
          </p:nvSpPr>
          <p:spPr>
            <a:xfrm>
              <a:off x="2454840" y="4153320"/>
              <a:ext cx="783720" cy="4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22"/>
            <p:cNvSpPr/>
            <p:nvPr/>
          </p:nvSpPr>
          <p:spPr>
            <a:xfrm flipH="1">
              <a:off x="6063120" y="3780360"/>
              <a:ext cx="627120" cy="87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47280" y="1268280"/>
            <a:ext cx="6193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Understanding your current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250920" y="1803240"/>
            <a:ext cx="162540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ferral 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rimary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2549520" y="2644920"/>
            <a:ext cx="1308240" cy="62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1" action="ppaction://hlinksldjump"/>
              </a:rPr>
              <a:t>Pre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2" action="ppaction://hlinksldjump"/>
              </a:rPr>
              <a:t>Ope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3932280" y="3510000"/>
            <a:ext cx="128736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d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5302080" y="4352760"/>
            <a:ext cx="121320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3" action="ppaction://hlinksldjump"/>
              </a:rPr>
              <a:t>Intra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4" action="ppaction://hlinksldjump"/>
              </a:rPr>
              <a:t>Ope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6626160" y="5191200"/>
            <a:ext cx="127008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5" action="ppaction://hlinksldjump"/>
              </a:rPr>
              <a:t>Post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6" action="ppaction://hlinksldjump"/>
              </a:rPr>
              <a:t>Ope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7951680" y="6058080"/>
            <a:ext cx="941400" cy="61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Fol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5"/>
          <p:cNvSpPr/>
          <p:nvPr/>
        </p:nvSpPr>
        <p:spPr>
          <a:xfrm>
            <a:off x="0" y="3716280"/>
            <a:ext cx="2138400" cy="2705040"/>
          </a:xfrm>
          <a:prstGeom prst="wedgeRoundRectCallout">
            <a:avLst>
              <a:gd name="adj1" fmla="val 75981"/>
              <a:gd name="adj2" fmla="val -72185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ptimised health / medical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Informed decision 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re operative health &amp; risk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T information and expectation mana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DX planning (ED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re-operative therapy instruction as appropr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6" descr="MCj04398050000[1]"/>
          <p:cNvPicPr/>
          <p:nvPr/>
        </p:nvPicPr>
        <p:blipFill>
          <a:blip r:embed="rId7"/>
          <a:stretch/>
        </p:blipFill>
        <p:spPr>
          <a:xfrm rot="20949600">
            <a:off x="1636560" y="232056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1" descr="MCj04398050000[1]"/>
          <p:cNvPicPr/>
          <p:nvPr/>
        </p:nvPicPr>
        <p:blipFill>
          <a:blip r:embed="rId8"/>
          <a:stretch/>
        </p:blipFill>
        <p:spPr>
          <a:xfrm rot="20949600">
            <a:off x="3019320" y="317448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2" descr="MCj04398050000[1]"/>
          <p:cNvPicPr/>
          <p:nvPr/>
        </p:nvPicPr>
        <p:blipFill>
          <a:blip r:embed="rId9"/>
          <a:stretch/>
        </p:blipFill>
        <p:spPr>
          <a:xfrm rot="20949600">
            <a:off x="4390920" y="402696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3" descr="MCj04398050000[1]"/>
          <p:cNvPicPr/>
          <p:nvPr/>
        </p:nvPicPr>
        <p:blipFill>
          <a:blip r:embed="rId10"/>
          <a:stretch/>
        </p:blipFill>
        <p:spPr>
          <a:xfrm rot="20949600">
            <a:off x="5713560" y="486216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4" descr="MCj04398050000[1]"/>
          <p:cNvPicPr/>
          <p:nvPr/>
        </p:nvPicPr>
        <p:blipFill>
          <a:blip r:embed="rId11"/>
          <a:stretch/>
        </p:blipFill>
        <p:spPr>
          <a:xfrm rot="20949600">
            <a:off x="7039080" y="5717880"/>
            <a:ext cx="1108080" cy="63828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25"/>
          <p:cNvSpPr/>
          <p:nvPr/>
        </p:nvSpPr>
        <p:spPr>
          <a:xfrm>
            <a:off x="2340000" y="4292640"/>
            <a:ext cx="2519280" cy="2565360"/>
          </a:xfrm>
          <a:prstGeom prst="wedgeRoundRectCallout">
            <a:avLst>
              <a:gd name="adj1" fmla="val 68023"/>
              <a:gd name="adj2" fmla="val -35953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Minimally invasive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Use of transverse incisions (abdomi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 NG tube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Use of  regional  / LA with se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Epidural management (inc thorac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ptimised fluid management Individualised goal directed fluid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26"/>
          <p:cNvSpPr/>
          <p:nvPr/>
        </p:nvSpPr>
        <p:spPr>
          <a:xfrm>
            <a:off x="6789600" y="1814400"/>
            <a:ext cx="2152800" cy="3078360"/>
          </a:xfrm>
          <a:prstGeom prst="wedgeRoundRectCallout">
            <a:avLst>
              <a:gd name="adj1" fmla="val -37240"/>
              <a:gd name="adj2" fmla="val 59592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lanned mob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apid hydration &amp; nour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ppropriate IV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 wound d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 NG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atheters removed 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gular oral analg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aracetamol and NS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voidance of  systemic opiate-based analgesia where possible or administered top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27"/>
          <p:cNvSpPr/>
          <p:nvPr/>
        </p:nvSpPr>
        <p:spPr>
          <a:xfrm>
            <a:off x="4791240" y="1747800"/>
            <a:ext cx="1933560" cy="1692360"/>
          </a:xfrm>
          <a:prstGeom prst="wedgeRoundRectCallout">
            <a:avLst>
              <a:gd name="adj1" fmla="val -68574"/>
              <a:gd name="adj2" fmla="val 53472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dmission on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ptimised Fluid Hyd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HO Lo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duced sta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 / reduced oral bowel preparation ( 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8"/>
          <p:cNvSpPr/>
          <p:nvPr/>
        </p:nvSpPr>
        <p:spPr>
          <a:xfrm>
            <a:off x="4932360" y="5735520"/>
            <a:ext cx="1976400" cy="1122480"/>
          </a:xfrm>
          <a:prstGeom prst="wedgeRoundRectCallout">
            <a:avLst>
              <a:gd name="adj1" fmla="val 102689"/>
              <a:gd name="adj2" fmla="val -473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DX when criteria 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Therapy support (stoma, physi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24hr telephone foll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9"/>
          <p:cNvSpPr/>
          <p:nvPr/>
        </p:nvSpPr>
        <p:spPr>
          <a:xfrm>
            <a:off x="2590920" y="1797120"/>
            <a:ext cx="2112840" cy="798480"/>
          </a:xfrm>
          <a:prstGeom prst="wedgeRoundRectCallout">
            <a:avLst>
              <a:gd name="adj1" fmla="val -77875"/>
              <a:gd name="adj2" fmla="val 1689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ptimising pre operative haemoglobin lev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Managing pre existing co morbidities e.g. diabe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hort-term inves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upport to change the pathway (e.g. service improvement, change manager, facilitator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raining – new skills e.g. pre-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quipment – invest to s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ommunication/awaren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ind out what is already in place &amp; going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ake the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Identifying the tea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lementation requires a number of fac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clinical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care systems and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ng a team to work across the patient path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require technical and behavioural chang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s start with thinking about who to engage and how to structure the project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consequences of not doing 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 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9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176720" cy="582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8" name="Picture 8" descr=""/>
          <p:cNvPicPr/>
          <p:nvPr/>
        </p:nvPicPr>
        <p:blipFill>
          <a:blip r:embed="rId2"/>
          <a:stretch/>
        </p:blipFill>
        <p:spPr>
          <a:xfrm>
            <a:off x="4643280" y="333360"/>
            <a:ext cx="4105440" cy="579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9" name="Text Box 6"/>
          <p:cNvSpPr/>
          <p:nvPr/>
        </p:nvSpPr>
        <p:spPr>
          <a:xfrm>
            <a:off x="1058760" y="6284880"/>
            <a:ext cx="73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259c2"/>
                </a:solidFill>
                <a:latin typeface="Arial"/>
                <a:ea typeface="ＭＳ Ｐゴシック"/>
              </a:rPr>
              <a:t>For copies of the clinical evidence compendium or further information contact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ＭＳ Ｐゴシック"/>
                <a:hlinkClick r:id="rId3"/>
              </a:rPr>
              <a:t>http://www.dh.gov.uk/en/Healthcare/Electivecare/Enhancedrecovery/DH_115638</a:t>
            </a:r>
            <a:r>
              <a:rPr b="0" lang="en-US" sz="1200" spc="-1" strike="noStrike" u="sng">
                <a:solidFill>
                  <a:srgbClr val="3e3094"/>
                </a:solidFill>
                <a:uFillTx/>
                <a:latin typeface="Arial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6575400" y="1303200"/>
            <a:ext cx="2568600" cy="41767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20200" y="402840"/>
            <a:ext cx="5653080" cy="66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Support materi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5" descr=""/>
          <p:cNvPicPr/>
          <p:nvPr/>
        </p:nvPicPr>
        <p:blipFill>
          <a:blip r:embed="rId2"/>
          <a:stretch/>
        </p:blipFill>
        <p:spPr>
          <a:xfrm>
            <a:off x="5210280" y="2082960"/>
            <a:ext cx="2392200" cy="387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3" name="Picture 4" descr=""/>
          <p:cNvPicPr/>
          <p:nvPr/>
        </p:nvPicPr>
        <p:blipFill>
          <a:blip r:embed="rId3"/>
          <a:stretch/>
        </p:blipFill>
        <p:spPr>
          <a:xfrm>
            <a:off x="4541760" y="3282840"/>
            <a:ext cx="2181240" cy="33782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"/>
          <p:cNvPicPr/>
          <p:nvPr/>
        </p:nvPicPr>
        <p:blipFill>
          <a:blip r:embed="rId4"/>
          <a:stretch/>
        </p:blipFill>
        <p:spPr>
          <a:xfrm>
            <a:off x="1030320" y="1414440"/>
            <a:ext cx="3287520" cy="5025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principle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hanced Recov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tients have elective surgery with an innovative, high quality car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tients are in the optimal condition for trea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tients have a better care experience before, during and after their op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re is a role for everyone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576360" y="60336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vernment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988920" y="1627200"/>
            <a:ext cx="3267000" cy="479736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4959360" y="2784600"/>
            <a:ext cx="3786120" cy="33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47840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288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tting patient fi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288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roving healthcar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288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onomy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oun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288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tting bureaucracy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roving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27288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July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4687920" y="1459080"/>
            <a:ext cx="3681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core principles of enhanced recovery are aligned to the Health White Pap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35344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84247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st Do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ris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 agre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dvice guidance and support – to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Implementation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Enhanced Recovery Tool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SHA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Local Network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CLH Implementation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-learning / DVD / Top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nsight/departments/Projects/QEP/Pages/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ome.asp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ww.improvement.nhs.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is Se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rinciples, elements and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        benefits of ERP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rivers for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urrent and future pat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3876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Action Plann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takeholde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esting changes for improvement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easuring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2c6"/>
                </a:solidFill>
                <a:latin typeface="Century Gothic"/>
              </a:rPr>
              <a:t>Testing Changes for Improvement</a:t>
            </a:r>
            <a:br>
              <a:rPr sz="4000"/>
            </a:br>
            <a:r>
              <a:rPr b="1" lang="en-GB" sz="3600" spc="-1" strike="noStrike">
                <a:solidFill>
                  <a:srgbClr val="0072c6"/>
                </a:solidFill>
                <a:latin typeface="Century Gothic"/>
              </a:rPr>
              <a:t>Sophia Mavrommat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325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2c6"/>
                </a:solidFill>
                <a:latin typeface="Century Gothic"/>
              </a:rPr>
              <a:t>Principles, elements and benefits of Enhanced Recovery</a:t>
            </a:r>
            <a:br>
              <a:rPr sz="4000"/>
            </a:b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2c6"/>
                </a:solidFill>
                <a:latin typeface="Century Gothic"/>
              </a:rPr>
              <a:t>Drivers for Implementation</a:t>
            </a:r>
            <a:br>
              <a:rPr sz="44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Bella Tal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822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2c6"/>
                </a:solidFill>
                <a:latin typeface="Century Gothic"/>
              </a:rPr>
              <a:t>Mapping your pathway against the Enhanced Recovery Elements</a:t>
            </a:r>
            <a:br>
              <a:rPr sz="4000"/>
            </a:br>
            <a:br>
              <a:rPr sz="40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Bella</a:t>
            </a:r>
            <a:br>
              <a:rPr sz="36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Tal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It makes a difference to pati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6560" y="3106800"/>
            <a:ext cx="3446640" cy="2476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651640" y="2133720"/>
            <a:ext cx="3225600" cy="3671640"/>
          </a:xfrm>
          <a:prstGeom prst="wedgeRoundRectCallout">
            <a:avLst>
              <a:gd name="adj1" fmla="val -109694"/>
              <a:gd name="adj2" fmla="val 1627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d two hip replacements last year. One in June and one in Decemb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cond one was much better, the service is fabulous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59500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June there was no Enhanced Recovery Programme in place but in December there wa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822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2c6"/>
                </a:solidFill>
                <a:latin typeface="Century Gothic"/>
              </a:rPr>
              <a:t>Action planning and potential challenges</a:t>
            </a:r>
            <a:br>
              <a:rPr sz="4000"/>
            </a:br>
            <a:br>
              <a:rPr sz="4000"/>
            </a:br>
            <a:r>
              <a:rPr b="1" lang="en-GB" sz="3600" spc="-1" strike="noStrike">
                <a:solidFill>
                  <a:srgbClr val="0072c6"/>
                </a:solidFill>
                <a:latin typeface="Century Gothic"/>
              </a:rPr>
              <a:t>Sophia Mavrommat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2c6"/>
                </a:solidFill>
                <a:latin typeface="Century Gothic"/>
              </a:rPr>
              <a:t>Measuring Outcomes</a:t>
            </a:r>
            <a:br>
              <a:rPr sz="44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Bella Tal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hanced Recovery Pathway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Implementation &amp; Sustainability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16360" y="1341360"/>
            <a:ext cx="4103640" cy="24480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4319280" cy="24703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324000" y="4005360"/>
            <a:ext cx="4319280" cy="25923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4716360" y="4005360"/>
            <a:ext cx="4103640" cy="25923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547640" y="5157720"/>
            <a:ext cx="2737080" cy="93528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093080" y="2205000"/>
            <a:ext cx="1368360" cy="93492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523280" y="5300640"/>
            <a:ext cx="1081080" cy="72072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11280" y="2421000"/>
            <a:ext cx="1873440" cy="86364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08720" y="2637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771640" y="4941720"/>
            <a:ext cx="57636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659640" y="1989000"/>
            <a:ext cx="86508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132000" y="198900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164360" y="4724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124000" y="177336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P implemen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580000" y="170028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botic Surg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835280" y="466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P implemen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659640" y="444960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QUI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31880" y="118800"/>
            <a:ext cx="772776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enefits Realis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Diagram 3" descr=""/>
          <p:cNvPicPr/>
          <p:nvPr/>
        </p:nvPicPr>
        <p:blipFill>
          <a:blip r:embed="rId1"/>
          <a:stretch/>
        </p:blipFill>
        <p:spPr>
          <a:xfrm>
            <a:off x="1908000" y="1197000"/>
            <a:ext cx="582624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356760"/>
            <a:ext cx="843588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otential capacity releas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6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 on Patient Path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3" descr="Trad and ER Pathway.bmp"/>
          <p:cNvPicPr/>
          <p:nvPr/>
        </p:nvPicPr>
        <p:blipFill>
          <a:blip r:embed="rId1"/>
          <a:srcRect l="1775" t="1392" r="1775" b="1801"/>
          <a:stretch/>
        </p:blipFill>
        <p:spPr>
          <a:xfrm>
            <a:off x="289080" y="1557360"/>
            <a:ext cx="8604000" cy="504036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4"/>
          <p:cNvSpPr/>
          <p:nvPr/>
        </p:nvSpPr>
        <p:spPr>
          <a:xfrm>
            <a:off x="5513400" y="5203800"/>
            <a:ext cx="2946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ditional pathway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£200 per day pp)= £2,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S Reduction ER = £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8920" y="180720"/>
            <a:ext cx="87138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s Influencing Patient Recov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4720" y="1574280"/>
            <a:ext cx="3806640" cy="48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erastable"/>
          <p:cNvPicPr/>
          <p:nvPr/>
        </p:nvPicPr>
        <p:blipFill>
          <a:blip r:embed="rId1"/>
          <a:stretch/>
        </p:blipFill>
        <p:spPr>
          <a:xfrm>
            <a:off x="1434960" y="1738440"/>
            <a:ext cx="6496200" cy="4338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19640" y="5373720"/>
            <a:ext cx="367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ANNAH - Could this slide be combined in some way with the next one (mountain).  Will need to include reference but we can do this 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6237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llet’s Theory 1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core element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purpose of the different stages of care path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-operativel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Other health problems are identified &amp; managed to enable the patient to be in the best possible condition for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a-operativel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st possible evidence based management is given to the patient during and after surge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-operativel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tients are encouraged with early mobilisation and timely discharge for the best rehabilitation with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678960"/>
            <a:ext cx="8964720" cy="87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Enhanced Recovery Elements at key stages of the path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1"/>
          <p:cNvSpPr/>
          <p:nvPr/>
        </p:nvSpPr>
        <p:spPr>
          <a:xfrm>
            <a:off x="8089920" y="6512040"/>
            <a:ext cx="946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72EA-B952-48D8-84F2-A135C88E5FC8}" type="slidenum">
              <a:rPr b="0" lang="en-CA" sz="900" spc="-1" strike="noStrike">
                <a:solidFill>
                  <a:srgbClr val="00996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785880" y="1635120"/>
            <a:ext cx="143352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ferral fr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imary 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549520" y="2476440"/>
            <a:ext cx="1081080" cy="62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 action="ppaction://hlinksldjump"/>
              </a:rPr>
              <a:t>Pre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 action="ppaction://hlinksldjump"/>
              </a:rPr>
              <a:t>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3930480" y="3341520"/>
            <a:ext cx="116712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5302080" y="4184640"/>
            <a:ext cx="108288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 action="ppaction://hlinksldjump"/>
              </a:rPr>
              <a:t>Intra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 action="ppaction://hlinksldjump"/>
              </a:rPr>
              <a:t>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6626160" y="5022720"/>
            <a:ext cx="106848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5" action="ppaction://hlinksldjump"/>
              </a:rPr>
              <a:t>Post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6" action="ppaction://hlinksldjump"/>
              </a:rPr>
              <a:t>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7951680" y="5889600"/>
            <a:ext cx="80640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l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0"/>
          <p:cNvSpPr/>
          <p:nvPr/>
        </p:nvSpPr>
        <p:spPr>
          <a:xfrm>
            <a:off x="733320" y="3697200"/>
            <a:ext cx="2347920" cy="1865520"/>
          </a:xfrm>
          <a:prstGeom prst="wedgeRoundRectCallout">
            <a:avLst>
              <a:gd name="adj1" fmla="val 41675"/>
              <a:gd name="adj2" fmla="val -7147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ed health / medical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Informed decision 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Pre operative health &amp; risk assessment - CP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PT information and expectation mana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DX planning (ED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MCj04398050000[1]"/>
          <p:cNvPicPr/>
          <p:nvPr/>
        </p:nvPicPr>
        <p:blipFill>
          <a:blip r:embed="rId7"/>
          <a:stretch/>
        </p:blipFill>
        <p:spPr>
          <a:xfrm rot="20949600">
            <a:off x="1636560" y="2152440"/>
            <a:ext cx="1108080" cy="637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MCj04398050000[1]"/>
          <p:cNvPicPr/>
          <p:nvPr/>
        </p:nvPicPr>
        <p:blipFill>
          <a:blip r:embed="rId8"/>
          <a:stretch/>
        </p:blipFill>
        <p:spPr>
          <a:xfrm rot="20949600">
            <a:off x="3019320" y="300636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MCj04398050000[1]"/>
          <p:cNvPicPr/>
          <p:nvPr/>
        </p:nvPicPr>
        <p:blipFill>
          <a:blip r:embed="rId9"/>
          <a:stretch/>
        </p:blipFill>
        <p:spPr>
          <a:xfrm rot="20949600">
            <a:off x="4390920" y="385884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MCj04398050000[1]"/>
          <p:cNvPicPr/>
          <p:nvPr/>
        </p:nvPicPr>
        <p:blipFill>
          <a:blip r:embed="rId10"/>
          <a:stretch/>
        </p:blipFill>
        <p:spPr>
          <a:xfrm rot="20949600">
            <a:off x="5713560" y="4694040"/>
            <a:ext cx="1108080" cy="637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5" descr="MCj04398050000[1]"/>
          <p:cNvPicPr/>
          <p:nvPr/>
        </p:nvPicPr>
        <p:blipFill>
          <a:blip r:embed="rId11"/>
          <a:stretch/>
        </p:blipFill>
        <p:spPr>
          <a:xfrm rot="20949600">
            <a:off x="7040520" y="5549760"/>
            <a:ext cx="1106640" cy="6382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16"/>
          <p:cNvSpPr/>
          <p:nvPr/>
        </p:nvSpPr>
        <p:spPr>
          <a:xfrm>
            <a:off x="3147840" y="4581360"/>
            <a:ext cx="2084400" cy="2160720"/>
          </a:xfrm>
          <a:prstGeom prst="wedgeRoundRectCallout">
            <a:avLst>
              <a:gd name="adj1" fmla="val 68124"/>
              <a:gd name="adj2" fmla="val -39861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nimally invasive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 of transverse inc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No NG tube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Use of LA with se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Epidural management (inc thorac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ed fluid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7"/>
          <p:cNvSpPr/>
          <p:nvPr/>
        </p:nvSpPr>
        <p:spPr>
          <a:xfrm>
            <a:off x="6800760" y="1779480"/>
            <a:ext cx="2114640" cy="2494080"/>
          </a:xfrm>
          <a:prstGeom prst="wedgeRoundRectCallout">
            <a:avLst>
              <a:gd name="adj1" fmla="val -37597"/>
              <a:gd name="adj2" fmla="val 7991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Planned mob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Rapid hydration &amp; nour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Appropriate IV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No wound d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No NG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Catheters removed 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Regular oral analg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Paracetamol and NS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Avoidance of opiate-based analgesia where possible or administered top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8"/>
          <p:cNvSpPr/>
          <p:nvPr/>
        </p:nvSpPr>
        <p:spPr>
          <a:xfrm>
            <a:off x="4792680" y="1579680"/>
            <a:ext cx="1932120" cy="1692000"/>
          </a:xfrm>
          <a:prstGeom prst="wedgeRoundRectCallout">
            <a:avLst>
              <a:gd name="adj1" fmla="val -68574"/>
              <a:gd name="adj2" fmla="val 53472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ed Fluid Hyd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Reduced sta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 / reduced bowel preparation ( 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9"/>
          <p:cNvSpPr/>
          <p:nvPr/>
        </p:nvSpPr>
        <p:spPr>
          <a:xfrm>
            <a:off x="5292720" y="5735520"/>
            <a:ext cx="1949400" cy="927360"/>
          </a:xfrm>
          <a:prstGeom prst="wedgeRoundRectCallout">
            <a:avLst>
              <a:gd name="adj1" fmla="val 86388"/>
              <a:gd name="adj2" fmla="val 479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X on planned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erapy support (stoma, physi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  <a:ea typeface="Arial"/>
              </a:rPr>
              <a:t>24hr telephone foll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0"/>
          <p:cNvSpPr/>
          <p:nvPr/>
        </p:nvSpPr>
        <p:spPr>
          <a:xfrm>
            <a:off x="2579760" y="1450800"/>
            <a:ext cx="2112840" cy="943200"/>
          </a:xfrm>
          <a:prstGeom prst="wedgeRoundRectCallout">
            <a:avLst>
              <a:gd name="adj1" fmla="val -67615"/>
              <a:gd name="adj2" fmla="val -622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ing pre operative haemoglobin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Managing pre existing co morbidities e.g. diab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1"/>
          <p:cNvSpPr/>
          <p:nvPr/>
        </p:nvSpPr>
        <p:spPr>
          <a:xfrm flipH="1">
            <a:off x="7900920" y="4622760"/>
            <a:ext cx="1006560" cy="711360"/>
          </a:xfrm>
          <a:prstGeom prst="wedgeRoundRectCallout">
            <a:avLst>
              <a:gd name="adj1" fmla="val -12907"/>
              <a:gd name="adj2" fmla="val 126319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Audit &amp; outcome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09:39:24Z</dcterms:created>
  <dc:creator>btalwar</dc:creator>
  <dc:description/>
  <dc:language>en-US</dc:language>
  <cp:lastModifiedBy>LHollins</cp:lastModifiedBy>
  <dcterms:modified xsi:type="dcterms:W3CDTF">2012-03-30T16:45:28Z</dcterms:modified>
  <cp:revision>21</cp:revision>
  <dc:subject/>
  <dc:title>Enhanced Recovery e-learning module</dc:title>
</cp:coreProperties>
</file>