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06AE-677E-4A70-95DE-8F4D89FED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20D0-CBDF-48CF-AB83-D730DCC60A3B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34Z</dcterms:modified>
  <cp:revision>37</cp:revision>
  <dc:subject/>
  <dc:title>Add title here</dc:title>
</cp:coreProperties>
</file>