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7D69-4073-4C94-98AE-BFCC0792E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CE3A-EDCE-4076-BDBC-D165A84AC9A5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18Z</dcterms:modified>
  <cp:revision>37</cp:revision>
  <dc:subject/>
  <dc:title>Add title here</dc:title>
</cp:coreProperties>
</file>