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2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3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944B-784D-4BB3-B1BD-718438ED29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2840" y="468468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hat was the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act of these services?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University of Bristol evaluation looked at 6 month perio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CP (yellow) users mor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t home /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ess in hospital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than non DCP (orange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reflected in impact on all death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valuation did analysis to control for patient group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– i.e. age &amp; diagnosis – to check that DCP wasn’t attracting a type of patients inherently prone to home death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2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0" y="907920"/>
            <a:ext cx="9144000" cy="900360"/>
          </a:xfrm>
          <a:prstGeom prst="rect">
            <a:avLst/>
          </a:prstGeom>
          <a:solidFill>
            <a:srgbClr val="5550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ts val="2398"/>
              </a:lnSpc>
              <a:spcBef>
                <a:spcPts val="15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b505e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2b505e"/>
              </a:solidFill>
              <a:latin typeface="Arial"/>
            </a:endParaRPr>
          </a:p>
          <a:p>
            <a:pPr lvl="1" marL="212760" indent="-21132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61880" indent="-24264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89040" indent="-2224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947880" indent="-247680">
              <a:lnSpc>
                <a:spcPts val="2398"/>
              </a:lnSpc>
              <a:spcBef>
                <a:spcPts val="825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947880" indent="-247680">
              <a:spcBef>
                <a:spcPts val="55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9" descr="nuffieldtrust_logo_rgb"/>
          <p:cNvPicPr/>
          <p:nvPr/>
        </p:nvPicPr>
        <p:blipFill>
          <a:blip r:embed="rId2"/>
          <a:stretch/>
        </p:blipFill>
        <p:spPr>
          <a:xfrm>
            <a:off x="6765840" y="306360"/>
            <a:ext cx="2140200" cy="71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nuffieldtrust_strapline_rgb"/>
          <p:cNvPicPr/>
          <p:nvPr/>
        </p:nvPicPr>
        <p:blipFill>
          <a:blip r:embed="rId3"/>
          <a:stretch/>
        </p:blipFill>
        <p:spPr>
          <a:xfrm>
            <a:off x="368280" y="587520"/>
            <a:ext cx="995400" cy="2476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3"/>
          <p:cNvSpPr/>
          <p:nvPr/>
        </p:nvSpPr>
        <p:spPr>
          <a:xfrm>
            <a:off x="5943600" y="638820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55504c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898560"/>
            <a:ext cx="9144000" cy="5959440"/>
          </a:xfrm>
          <a:prstGeom prst="rect">
            <a:avLst/>
          </a:prstGeom>
          <a:solidFill>
            <a:srgbClr val="2b50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358920" y="6334200"/>
            <a:ext cx="29718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62BB-0285-45E2-BDAC-F0D4EA1D8447}" type="datetime3">
              <a:rPr b="0" lang="en-GB" sz="1400" spc="-1" strike="noStrike">
                <a:solidFill>
                  <a:srgbClr val="ffffff"/>
                </a:solidFill>
                <a:latin typeface="Garamond"/>
                <a:ea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5943600" y="6397560"/>
            <a:ext cx="2971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© Nuffield Tru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58560" y="901440"/>
            <a:ext cx="838980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sults - Proportion of people dying a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5"/>
          <p:cNvSpPr/>
          <p:nvPr/>
        </p:nvSpPr>
        <p:spPr>
          <a:xfrm>
            <a:off x="324000" y="5373720"/>
            <a:ext cx="842472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77% of Marie Curie Nursing Service patients died at home but only 35% of contr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3880" indent="-353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act of Marie Curie Nursing Service care on home deaths is greater for those with no history of cancer than for those with can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04776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3"/>
          <p:cNvSpPr/>
          <p:nvPr/>
        </p:nvSpPr>
        <p:spPr>
          <a:xfrm>
            <a:off x="0" y="1989000"/>
            <a:ext cx="9144000" cy="287640"/>
          </a:xfrm>
          <a:prstGeom prst="rect">
            <a:avLst/>
          </a:prstGeom>
          <a:solidFill>
            <a:srgbClr val="c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Garamond"/>
              </a:rPr>
              <a:t>Figure 2 – Place of death for Marie Curie Nursing Service patients &amp; matched contr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Q584 Somerset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14:53:31Z</dcterms:created>
  <dc:creator>Joe Samuel</dc:creator>
  <dc:description/>
  <dc:language>en-US</dc:language>
  <cp:lastModifiedBy>Shreshtha Trivedi</cp:lastModifiedBy>
  <dcterms:modified xsi:type="dcterms:W3CDTF">2012-11-21T16:58:18Z</dcterms:modified>
  <cp:revision>37</cp:revision>
  <dc:subject/>
  <dc:title>Add title here</dc:title>
</cp:coreProperties>
</file>