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FFC0-3287-4E7E-8ECB-E6487A617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7CED-DBB4-438A-95E4-248D74F8A3EB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34Z</dcterms:modified>
  <cp:revision>37</cp:revision>
  <dc:subject/>
  <dc:title>Add title here</dc:title>
</cp:coreProperties>
</file>